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8.jpeg" ContentType="image/jpeg"/>
  <Override PartName="/ppt/media/image12.png" ContentType="image/png"/>
  <Override PartName="/ppt/media/image17.jpeg" ContentType="image/jpeg"/>
  <Override PartName="/ppt/media/image14.wmf" ContentType="image/x-wmf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F218-6BB4-4A8A-B357-746E6422F88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D093-592A-4508-94E3-D8B87DDA0EC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7D33-ACE7-4F3B-AD99-B1370DE07B7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516F-E9D5-4A6E-AFE3-13905F55EBB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5702-17B3-446C-A36D-4BD5218B8BE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0F64-F236-49EA-A0DD-3BE662EA30F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3054-44F2-43CB-908E-BDD50339F05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2C7B-84CF-461E-9616-6C4D1C3CB42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4C53-A58E-4ADB-8DE2-AEE7D514AC4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2F29-7713-4312-B5B5-1EB3EB76035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B1F8-142C-49BC-96ED-353C297D644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A14D-E31C-4326-9250-F6391E82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7FDFB-FE82-4A22-B661-FCC267C1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86112-A8CD-455D-ACA2-9942BEB6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8911A-C5C0-47FF-8372-00BB738F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DD5D-9A01-4289-9D0C-515D31A3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C468-22AC-4C41-8FD5-1ED94274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0F6C-E6A9-4538-BB3E-7C870B9A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EE09-F5BF-4C13-A661-12BAF895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5057-4C2C-4E9F-83D4-AF1E4568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549A-0250-4F0E-AB9C-76DFEA53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4F22-EA0C-4DA8-BAB5-401DC04A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6853-2D07-41E6-B9AA-FBB19712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D363-96B7-4B29-952F-B436D9A9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8EC2-1B72-4F27-901F-D39C755D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EDD2-8B71-493C-B736-6424EE85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0957-4D88-416B-98AF-2B779D29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BBE6-8FA2-4F2D-8963-B573009A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831C-B45C-4709-9DCE-DB18EEE0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60190-7385-48DA-9739-39DCACA7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ADD25-C5D8-4BB2-AF07-528AE457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79BEC-513F-40DF-920A-FC48C1A0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120BB-931E-4227-9118-685E8F4C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00AD3-A744-4E41-BC50-FB691A65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12849-BCB3-46C9-82F4-D689BE7F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048A-1172-40AC-B1A7-02D84FD41D2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37EE-1568-4B09-BA79-6932C48B53A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Garamond"/>
              </a:rPr>
              <a:t>بسم الله الرحمن الرحيم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4"/>
          <p:cNvGraphicFramePr/>
          <p:nvPr/>
        </p:nvGraphicFramePr>
        <p:xfrm>
          <a:off x="755640" y="523800"/>
          <a:ext cx="7812000" cy="633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23800"/>
                    <a:ext cx="78120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Negative relationship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1981080" y="2743200"/>
            <a:ext cx="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981080" y="5715000"/>
            <a:ext cx="5791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50120" y="35812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039920" y="59436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 of C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2438280" y="4343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2819520" y="3429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3352680" y="411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3962520" y="3733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3657600" y="4419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3581280" y="3809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13"/>
          <p:cNvSpPr/>
          <p:nvPr/>
        </p:nvSpPr>
        <p:spPr>
          <a:xfrm>
            <a:off x="4191120" y="40384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4267080" y="4572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4952880" y="4952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16"/>
          <p:cNvSpPr/>
          <p:nvPr/>
        </p:nvSpPr>
        <p:spPr>
          <a:xfrm>
            <a:off x="2286000" y="3429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17"/>
          <p:cNvSpPr/>
          <p:nvPr/>
        </p:nvSpPr>
        <p:spPr>
          <a:xfrm>
            <a:off x="4572000" y="4800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18"/>
          <p:cNvSpPr/>
          <p:nvPr/>
        </p:nvSpPr>
        <p:spPr>
          <a:xfrm>
            <a:off x="4724280" y="4495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9"/>
          <p:cNvSpPr/>
          <p:nvPr/>
        </p:nvSpPr>
        <p:spPr>
          <a:xfrm>
            <a:off x="5257800" y="4724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20"/>
          <p:cNvSpPr/>
          <p:nvPr/>
        </p:nvSpPr>
        <p:spPr>
          <a:xfrm>
            <a:off x="6629400" y="5334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21"/>
          <p:cNvSpPr/>
          <p:nvPr/>
        </p:nvSpPr>
        <p:spPr>
          <a:xfrm>
            <a:off x="5715000" y="4876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5486400" y="4572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5791320" y="44956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5943600" y="5029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6629400" y="5105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6324480" y="4876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7"/>
          <p:cNvSpPr/>
          <p:nvPr/>
        </p:nvSpPr>
        <p:spPr>
          <a:xfrm>
            <a:off x="2438280" y="3124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8"/>
          <p:cNvSpPr/>
          <p:nvPr/>
        </p:nvSpPr>
        <p:spPr>
          <a:xfrm>
            <a:off x="2590920" y="3809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3200400" y="3809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30"/>
          <p:cNvSpPr/>
          <p:nvPr/>
        </p:nvSpPr>
        <p:spPr>
          <a:xfrm>
            <a:off x="4114800" y="4419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31"/>
          <p:cNvSpPr/>
          <p:nvPr/>
        </p:nvSpPr>
        <p:spPr>
          <a:xfrm>
            <a:off x="4876920" y="4114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32"/>
          <p:cNvSpPr/>
          <p:nvPr/>
        </p:nvSpPr>
        <p:spPr>
          <a:xfrm>
            <a:off x="5410080" y="4267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33"/>
          <p:cNvSpPr/>
          <p:nvPr/>
        </p:nvSpPr>
        <p:spPr>
          <a:xfrm>
            <a:off x="2895480" y="3962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34"/>
          <p:cNvSpPr/>
          <p:nvPr/>
        </p:nvSpPr>
        <p:spPr>
          <a:xfrm>
            <a:off x="4419720" y="4191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No rel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1600200" y="1638360"/>
            <a:ext cx="59529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fee1"/>
                </a:solidFill>
                <a:latin typeface="Arial"/>
              </a:rPr>
              <a:t>Correlation Coefficient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 showing the degree of relation between two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Simple Correlation coefficient </a:t>
            </a:r>
            <a:r>
              <a:rPr b="1" lang="arn-CL" sz="3200" spc="-1" strike="noStrike">
                <a:solidFill>
                  <a:srgbClr val="ccffcc"/>
                </a:solidFill>
                <a:latin typeface="Arial"/>
              </a:rPr>
              <a:t>(r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41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lso called Pearson's correlation    or product moment correl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efficien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measures the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a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treng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tween two variables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quantita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yp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Arial"/>
              </a:rPr>
              <a:t>sig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enotes the nature of   associ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the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Arial"/>
              </a:rPr>
              <a:t>valu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enotes the strength of associ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79912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sign is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this means the relation is </a:t>
            </a:r>
            <a:r>
              <a:rPr b="0" lang="en-US" sz="3200" spc="-1" strike="noStrike">
                <a:solidFill>
                  <a:srgbClr val="ccffcc"/>
                </a:solidFill>
                <a:latin typeface="Arial"/>
              </a:rPr>
              <a:t>direc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n increase in one variable is associated with an increase in th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variable and a decrease in one variable is associated with 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 in the other variable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if the sign is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is means an </a:t>
            </a:r>
            <a:r>
              <a:rPr b="0" lang="en-US" sz="3200" spc="-1" strike="noStrike">
                <a:solidFill>
                  <a:srgbClr val="ccffcc"/>
                </a:solidFill>
                <a:latin typeface="Arial"/>
              </a:rPr>
              <a:t>inverse or indir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lationship (which means an increase in one variable is associated with a decrease in the other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lue of r ranges between ( -1) and ( +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lue of r denotes the strength of the association as illustrat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following diagra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900000" y="4005360"/>
            <a:ext cx="748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900000" y="3933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8388360" y="3933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>
            <a:off x="4484520" y="38768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1"/>
          <p:cNvSpPr/>
          <p:nvPr/>
        </p:nvSpPr>
        <p:spPr>
          <a:xfrm>
            <a:off x="2700360" y="400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>
            <a:off x="3564000" y="393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>
            <a:off x="1763640" y="393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5508720" y="393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7308720" y="393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541440" y="4437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8202960" y="450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4211640" y="450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3059280" y="450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0.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1476360" y="450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0.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7020000" y="450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5292720" y="450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900000" y="33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7451640" y="33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1908000" y="33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9"/>
          <p:cNvSpPr/>
          <p:nvPr/>
        </p:nvSpPr>
        <p:spPr>
          <a:xfrm>
            <a:off x="5796000" y="33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3635280" y="3357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1"/>
          <p:cNvSpPr/>
          <p:nvPr/>
        </p:nvSpPr>
        <p:spPr>
          <a:xfrm>
            <a:off x="4643280" y="3357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3708360" y="5950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re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33"/>
          <p:cNvSpPr/>
          <p:nvPr/>
        </p:nvSpPr>
        <p:spPr>
          <a:xfrm flipV="1">
            <a:off x="4351320" y="55148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4"/>
          <p:cNvSpPr/>
          <p:nvPr/>
        </p:nvSpPr>
        <p:spPr>
          <a:xfrm>
            <a:off x="250920" y="5516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ect corre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7415280" y="5516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ect corre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 flipV="1">
            <a:off x="755640" y="4941360"/>
            <a:ext cx="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 flipV="1">
            <a:off x="8317080" y="503712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4788000" y="5084640"/>
            <a:ext cx="3313080" cy="35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826920" y="5013360"/>
            <a:ext cx="3384720" cy="35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= Zer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is means no association or correlation between the two variabl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0 &lt;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&lt; 0.2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weak correl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0.25 ≤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&lt; 0.7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intermediate correl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0.75 ≤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&lt;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strong correl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=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perfect correl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1547640" y="2421000"/>
                <a:ext cx="6409080" cy="24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nary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(</m:t>
                                        </m:r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x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)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</m:e>
                                        </m:nary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(</m:t>
                                        </m:r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y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)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</m:e>
                                        </m:nary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Rectangle 6"/>
          <p:cNvSpPr/>
          <p:nvPr/>
        </p:nvSpPr>
        <p:spPr>
          <a:xfrm>
            <a:off x="0" y="39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9640" y="7650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to compute the simple correlation coefficient (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744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5ffe2"/>
                </a:solidFill>
                <a:latin typeface="Arial Rounded MT Bold"/>
              </a:rPr>
              <a:t>Correlation &amp; Regression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92280" y="3962520"/>
            <a:ext cx="697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. Moataza Mahmoud Abdel Wah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r of Bio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Institute of Public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ty of Alexand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Example</a:t>
            </a: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sample of 6 children was selected, data about their age in years and weight in kilograms was recorded as shown in the following table . It is required to find the correlation between age and weigh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258920" y="2781360"/>
          <a:ext cx="6049800" cy="3841560"/>
        </p:xfrm>
        <a:graphic>
          <a:graphicData uri="http://schemas.openxmlformats.org/drawingml/2006/table">
            <a:tbl>
              <a:tblPr/>
              <a:tblGrid>
                <a:gridCol w="1704960"/>
                <a:gridCol w="2092320"/>
                <a:gridCol w="2252520"/>
              </a:tblGrid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erial 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ge (year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Weight (Kg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4247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These 2 variables are of the quantitative type, one variable (Age) is called the independent and denoted as (X) variable and the other (weight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is called the dependent and denoted as (Y) variables to find the relation between age and weight compute the simple correlation coefficient using the following formula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2340000" y="4076640"/>
                <a:ext cx="482436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nary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(</m:t>
                                        </m:r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x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)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</m:e>
                                        </m:nary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(</m:t>
                                        </m:r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y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)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</m:e>
                                        </m:nary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Rectangle 6"/>
          <p:cNvSpPr/>
          <p:nvPr/>
        </p:nvSpPr>
        <p:spPr>
          <a:xfrm>
            <a:off x="0" y="39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24000" y="260280"/>
          <a:ext cx="8640720" cy="5851440"/>
        </p:xfrm>
        <a:graphic>
          <a:graphicData uri="http://schemas.openxmlformats.org/drawingml/2006/table">
            <a:tbl>
              <a:tblPr/>
              <a:tblGrid>
                <a:gridCol w="1511280"/>
                <a:gridCol w="1657080"/>
                <a:gridCol w="1800360"/>
                <a:gridCol w="1366920"/>
                <a:gridCol w="1225440"/>
                <a:gridCol w="1079640"/>
              </a:tblGrid>
              <a:tr h="12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252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erial 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252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ge (year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(x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2520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Weight (Kg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(y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x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X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Y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8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∑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∑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∑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xy= 46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∑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x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∑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y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 = 0.75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direct correl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1908000" y="1052640"/>
                <a:ext cx="511200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6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9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42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6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6</m:t>
                                    </m:r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Rectangle 6"/>
          <p:cNvSpPr/>
          <p:nvPr/>
        </p:nvSpPr>
        <p:spPr>
          <a:xfrm>
            <a:off x="0" y="388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EXAMPLE: Relationship between Anxiety and Test Score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1557360"/>
          <a:ext cx="8726400" cy="4522680"/>
        </p:xfrm>
        <a:graphic>
          <a:graphicData uri="http://schemas.openxmlformats.org/drawingml/2006/table">
            <a:tbl>
              <a:tblPr/>
              <a:tblGrid>
                <a:gridCol w="1776240"/>
                <a:gridCol w="1616400"/>
                <a:gridCol w="1809720"/>
                <a:gridCol w="1809720"/>
                <a:gridCol w="1714320"/>
              </a:tblGrid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xiet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 score (Y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∑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 = 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∑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 = 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∑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2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∑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2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∑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Y=1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Calculating Correlation Coefficient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0" y="1557360"/>
                <a:ext cx="9144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9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6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30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6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4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7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6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Text Box 8"/>
          <p:cNvSpPr/>
          <p:nvPr/>
        </p:nvSpPr>
        <p:spPr>
          <a:xfrm>
            <a:off x="1332000" y="342900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 = - 0.9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755640" y="4941720"/>
            <a:ext cx="590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irect strong corre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cc"/>
                </a:solidFill>
                <a:latin typeface="Arial"/>
              </a:rPr>
              <a:t>Spearman Rank Correlation Coefficient (r</a:t>
            </a:r>
            <a:r>
              <a:rPr b="1" i="1" lang="arn-CL" sz="3200" spc="-1" strike="noStrike" baseline="-25000">
                <a:solidFill>
                  <a:srgbClr val="ccffcc"/>
                </a:solidFill>
                <a:latin typeface="Arial"/>
              </a:rPr>
              <a:t>s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 non-parametric measure of correla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rocedure makes use of the two sets of ranks that may be assigned to the sample values of x and 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rman Rank correlation coefficient could be computed in the following cas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variables are quantitativ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variables are qualitative ordin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One variable is quantitative and the other is qualitative ordinal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cedure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k the values of X from 1 to n where n is the numbers of pairs of values of X and Y in the sam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k the values of Y from 1 to 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 the value of di for each pair of observation by subtracting the rank of Yi from the rank of X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uare each di and compute ∑di2 which is the sum of the squared valu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Apply the following formul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2484360" y="1413000"/>
                <a:ext cx="31687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Rectangle 6"/>
          <p:cNvSpPr/>
          <p:nvPr/>
        </p:nvSpPr>
        <p:spPr>
          <a:xfrm>
            <a:off x="0" y="36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84360" y="3716280"/>
            <a:ext cx="806436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alue of 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notes the magnitude and nature of association giving the same interpretation as simple 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 study of the relationship between level education and income the following data was obtained. Find the relationship between them and com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84360" y="2421000"/>
          <a:ext cx="7869240" cy="4022640"/>
        </p:xfrm>
        <a:graphic>
          <a:graphicData uri="http://schemas.openxmlformats.org/drawingml/2006/table">
            <a:tbl>
              <a:tblPr/>
              <a:tblGrid>
                <a:gridCol w="2028600"/>
                <a:gridCol w="3830760"/>
                <a:gridCol w="20098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mple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umb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vel education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X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ome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Y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arator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ar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t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ond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ond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llit</a:t>
                      </a:r>
                      <a:r>
                        <a:rPr b="1" lang="arn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ty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fee1"/>
                </a:solidFill>
                <a:latin typeface="Arial Rounded MT Bold"/>
              </a:rPr>
              <a:t>Correlation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nding the relationship between two quantitative variables without being able to infer causal relationship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Rounded MT Bold"/>
              </a:rPr>
              <a:t>Correlation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is a statistical technique used to determine the degree to which two variables are rel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Answer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0920" y="1052640"/>
          <a:ext cx="8362800" cy="3989160"/>
        </p:xfrm>
        <a:graphic>
          <a:graphicData uri="http://schemas.openxmlformats.org/drawingml/2006/table">
            <a:tbl>
              <a:tblPr/>
              <a:tblGrid>
                <a:gridCol w="658800"/>
                <a:gridCol w="1912680"/>
                <a:gridCol w="1100160"/>
                <a:gridCol w="1224000"/>
                <a:gridCol w="1187640"/>
                <a:gridCol w="1023840"/>
                <a:gridCol w="125568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X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ank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ank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parat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imar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iversit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5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.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cond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cond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llit</a:t>
                      </a:r>
                      <a:r>
                        <a:rPr b="0" lang="arn-CL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iversit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252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Text Box 588"/>
          <p:cNvSpPr/>
          <p:nvPr/>
        </p:nvSpPr>
        <p:spPr>
          <a:xfrm>
            <a:off x="7164360" y="5373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∑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n indirect weak correlation between level of education and inc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2556000" y="836640"/>
                <a:ext cx="460836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Rectangle 6"/>
          <p:cNvSpPr/>
          <p:nvPr/>
        </p:nvSpPr>
        <p:spPr>
          <a:xfrm>
            <a:off x="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4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ercis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6877080" y="4437000"/>
            <a:ext cx="2266920" cy="20372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0" y="6453360"/>
            <a:ext cx="9144000" cy="366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fee1"/>
                </a:solidFill>
                <a:latin typeface="Arial"/>
              </a:rPr>
              <a:t>Regression Analyses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ression: technique concerned with predicting some variables by knowing oth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predicting variable Y using variable 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egres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a variable (x) to predict some outcome variable (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s you how values in y change as a function of changes in values of 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orrelation and Regress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afee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rrelation describes the strength of a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inear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relationship between two variab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afee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e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ns 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ight li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afee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Arial"/>
              </a:rPr>
              <a:t>Regres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lls us how to draw the straight line described by the corre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Regress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64216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s the “best-fit” line for a certain set of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gression line makes the sum of the squares of the residuals smaller than for any other 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gression minimizes residua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62" name="Object 5"/>
          <p:cNvGraphicFramePr/>
          <p:nvPr/>
        </p:nvGraphicFramePr>
        <p:xfrm>
          <a:off x="755640" y="2325600"/>
          <a:ext cx="7848720" cy="45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325600"/>
                    <a:ext cx="784872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using the least squares method (a procedure that minimizes the vertical deviations of plotted points surrounding a straight line) we a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le to construct a best fitting straight line to the scatter diagram points and then formulate a regression equation in the form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5148360" y="4719600"/>
            <a:ext cx="3960720" cy="17337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5"/>
              <p:cNvSpPr txBox="1"/>
              <p:nvPr/>
            </p:nvSpPr>
            <p:spPr>
              <a:xfrm>
                <a:off x="1052640" y="5232240"/>
                <a:ext cx="28620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Text Box 6"/>
          <p:cNvSpPr/>
          <p:nvPr/>
        </p:nvSpPr>
        <p:spPr>
          <a:xfrm>
            <a:off x="5146560" y="5348160"/>
            <a:ext cx="433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7"/>
              <p:cNvSpPr txBox="1"/>
              <p:nvPr/>
            </p:nvSpPr>
            <p:spPr>
              <a:xfrm>
                <a:off x="900000" y="3282840"/>
                <a:ext cx="28544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gression Equ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ression equation describes the regression line mathematical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cep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p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4140360" y="177336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905184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Object 7"/>
          <p:cNvGraphicFramePr/>
          <p:nvPr/>
        </p:nvGraphicFramePr>
        <p:xfrm>
          <a:off x="5105520" y="836640"/>
          <a:ext cx="4038480" cy="24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836640"/>
                    <a:ext cx="4038480" cy="24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51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near Equ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7" name="Object 3"/>
          <p:cNvGraphicFramePr/>
          <p:nvPr/>
        </p:nvGraphicFramePr>
        <p:xfrm>
          <a:off x="179280" y="1413000"/>
          <a:ext cx="896472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96472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Text Box 4"/>
          <p:cNvSpPr/>
          <p:nvPr/>
        </p:nvSpPr>
        <p:spPr>
          <a:xfrm>
            <a:off x="1835280" y="23493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900000" y="1557360"/>
            <a:ext cx="28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6"/>
              <p:cNvSpPr txBox="1"/>
              <p:nvPr/>
            </p:nvSpPr>
            <p:spPr>
              <a:xfrm>
                <a:off x="1908000" y="2133720"/>
                <a:ext cx="24480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258920" y="1773360"/>
            <a:ext cx="763416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40000"/>
              </a:lnSpc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ngular coordin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quantitative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variable is called independent (X) and the second is called dependent (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s are not join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frequency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55640" y="69228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afee1"/>
                </a:solidFill>
                <a:latin typeface="Arial Rounded MT Bold"/>
              </a:rPr>
              <a:t>Scatter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6156360" y="4581360"/>
          <a:ext cx="2590920" cy="188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4581360"/>
                    <a:ext cx="259092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urs studying and gra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187280" y="1387440"/>
            <a:ext cx="636120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egressing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grades on hour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826920" y="847800"/>
            <a:ext cx="7274160" cy="45115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533520" y="5373720"/>
            <a:ext cx="8610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ed final grade in class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9.95 + 3.17*(number of hours you study per we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Predict the final grade of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one who studies for 12 hou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grade = 59.95 + (3.17*1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grade = 97.9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one who studies for 1 hou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grade = 59.95 + (3.17*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grade = 63.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edicted final grade in class = 59.95 + 3.17*(hours of stud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fee1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04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ample of 6 persons was selected the value of their age ( x variable) and their weight is demonstrated in the following table. Find the regression equation and what is the predicted weight when age is 8.5 yea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468360" y="1413000"/>
          <a:ext cx="8229600" cy="3671640"/>
        </p:xfrm>
        <a:graphic>
          <a:graphicData uri="http://schemas.openxmlformats.org/drawingml/2006/table">
            <a:tbl>
              <a:tblPr/>
              <a:tblGrid>
                <a:gridCol w="2784600"/>
                <a:gridCol w="2358720"/>
                <a:gridCol w="30862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erial no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ge 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Weight (y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fee1"/>
                </a:solidFill>
                <a:latin typeface="Arial"/>
              </a:rPr>
              <a:t>Answer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822320"/>
                <a:gridCol w="1540080"/>
                <a:gridCol w="2019240"/>
                <a:gridCol w="949320"/>
                <a:gridCol w="949320"/>
                <a:gridCol w="94932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erial no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ge 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Weight (y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x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Y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476360" y="692280"/>
                <a:ext cx="18003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6"/>
              <p:cNvSpPr txBox="1"/>
              <p:nvPr/>
            </p:nvSpPr>
            <p:spPr>
              <a:xfrm>
                <a:off x="5219640" y="765000"/>
                <a:ext cx="151128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Rectangle 9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8"/>
              <p:cNvSpPr txBox="1"/>
              <p:nvPr/>
            </p:nvSpPr>
            <p:spPr>
              <a:xfrm>
                <a:off x="1187280" y="1916280"/>
                <a:ext cx="3240360" cy="16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6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0"/>
          <p:cNvSpPr/>
          <p:nvPr/>
        </p:nvSpPr>
        <p:spPr>
          <a:xfrm>
            <a:off x="1332000" y="414972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ression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1"/>
              <p:cNvSpPr txBox="1"/>
              <p:nvPr/>
            </p:nvSpPr>
            <p:spPr>
              <a:xfrm>
                <a:off x="1547640" y="5300640"/>
                <a:ext cx="5256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4"/>
              <p:cNvSpPr txBox="1"/>
              <p:nvPr/>
            </p:nvSpPr>
            <p:spPr>
              <a:xfrm>
                <a:off x="1619280" y="692280"/>
                <a:ext cx="5184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Rectangle 7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826920" y="2924280"/>
                <a:ext cx="7309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*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8"/>
              <p:cNvSpPr txBox="1"/>
              <p:nvPr/>
            </p:nvSpPr>
            <p:spPr>
              <a:xfrm>
                <a:off x="1116000" y="4941720"/>
                <a:ext cx="6696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*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826920" y="0"/>
            <a:ext cx="7993080" cy="4797360"/>
          </a:xfrm>
          <a:prstGeom prst="rect">
            <a:avLst/>
          </a:prstGeom>
          <a:ln w="0">
            <a:noFill/>
          </a:ln>
        </p:spPr>
      </p:pic>
      <p:sp>
        <p:nvSpPr>
          <p:cNvPr id="311" name="Line 6"/>
          <p:cNvSpPr/>
          <p:nvPr/>
        </p:nvSpPr>
        <p:spPr>
          <a:xfrm flipV="1">
            <a:off x="3924360" y="765000"/>
            <a:ext cx="2952720" cy="1943280"/>
          </a:xfrm>
          <a:prstGeom prst="line">
            <a:avLst/>
          </a:prstGeom>
          <a:ln w="28440">
            <a:solidFill>
              <a:srgbClr val="000514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250920" y="505764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create a regression line by plotting  two estimated values for y against their X component, then extending the line right and left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fee1"/>
                </a:solidFill>
                <a:latin typeface="Arial"/>
              </a:rPr>
              <a:t>Exercise 2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4465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ollowing are the age (in years) and systolic blood pressure of 20 apparently healthy adul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4788000" y="549360"/>
          <a:ext cx="4038480" cy="5303880"/>
        </p:xfrm>
        <a:graphic>
          <a:graphicData uri="http://schemas.openxmlformats.org/drawingml/2006/table">
            <a:tbl>
              <a:tblPr/>
              <a:tblGrid>
                <a:gridCol w="1008000"/>
                <a:gridCol w="1011240"/>
                <a:gridCol w="1009440"/>
                <a:gridCol w="1009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ge 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B.P (y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ge 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B.P (y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5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3"/>
          <p:cNvGraphicFramePr/>
          <p:nvPr/>
        </p:nvGraphicFramePr>
        <p:xfrm>
          <a:off x="0" y="2492280"/>
          <a:ext cx="10086840" cy="211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2280"/>
                    <a:ext cx="10086840" cy="21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4"/>
          <p:cNvSpPr/>
          <p:nvPr/>
        </p:nvSpPr>
        <p:spPr>
          <a:xfrm>
            <a:off x="943560" y="765000"/>
            <a:ext cx="19105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lbertus Extra Bold"/>
                <a:ea typeface="Traditional Arabic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nd the correlation between age and blood pressure using simple and Spearman's correlation coefficients, and comm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nd the regression equatio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the predicted blood pressure for a man aging 25 year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1547640" y="404640"/>
          <a:ext cx="6120000" cy="5029200"/>
        </p:xfrm>
        <a:graphic>
          <a:graphicData uri="http://schemas.openxmlformats.org/drawingml/2006/table">
            <a:tbl>
              <a:tblPr/>
              <a:tblGrid>
                <a:gridCol w="1152720"/>
                <a:gridCol w="1109520"/>
                <a:gridCol w="833400"/>
                <a:gridCol w="1297080"/>
                <a:gridCol w="17272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er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x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x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5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8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88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39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32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1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8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39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96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8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33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60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1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8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33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4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1258920" y="333360"/>
          <a:ext cx="6624720" cy="6218280"/>
        </p:xfrm>
        <a:graphic>
          <a:graphicData uri="http://schemas.openxmlformats.org/drawingml/2006/table">
            <a:tbl>
              <a:tblPr/>
              <a:tblGrid>
                <a:gridCol w="1298520"/>
                <a:gridCol w="1298520"/>
                <a:gridCol w="1301760"/>
                <a:gridCol w="1427400"/>
                <a:gridCol w="129852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x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x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8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1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72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8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87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4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9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9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5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8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2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6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2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9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9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8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SimSu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SimSun"/>
                        </a:rPr>
                        <a:t>8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SimSun"/>
                        </a:rPr>
                        <a:t>26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SimSun"/>
                        </a:rPr>
                        <a:t>1144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imes New Roman"/>
                          <a:ea typeface="SimSun"/>
                        </a:rPr>
                        <a:t>416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384360" cy="201924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5"/>
              <p:cNvSpPr txBox="1"/>
              <p:nvPr/>
            </p:nvSpPr>
            <p:spPr>
              <a:xfrm>
                <a:off x="4859280" y="765000"/>
                <a:ext cx="3780000" cy="15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4486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52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678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85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4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Text Box 7"/>
          <p:cNvSpPr/>
          <p:nvPr/>
        </p:nvSpPr>
        <p:spPr>
          <a:xfrm>
            <a:off x="4140360" y="1268280"/>
            <a:ext cx="3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2987640" y="4005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112.13 + 0.4547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0" y="50133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age 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P = 112.13 + 0.4547 * 25=123.49 = 123.5 mm h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2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9"/>
              <p:cNvSpPr txBox="1"/>
              <p:nvPr/>
            </p:nvSpPr>
            <p:spPr>
              <a:xfrm>
                <a:off x="2050920" y="3789360"/>
                <a:ext cx="4748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fee1"/>
                </a:solidFill>
                <a:latin typeface="Arial"/>
              </a:rPr>
              <a:t>Multiple Regression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regression analysis is a straightforward extension of simple regression analysis which allows more than one independent varia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17474_wallpaper280"/>
          <p:cNvPicPr/>
          <p:nvPr/>
        </p:nvPicPr>
        <p:blipFill>
          <a:blip r:embed="rId1"/>
          <a:stretch/>
        </p:blipFill>
        <p:spPr>
          <a:xfrm>
            <a:off x="779400" y="2779560"/>
            <a:ext cx="3657600" cy="3794400"/>
          </a:xfrm>
          <a:prstGeom prst="rect">
            <a:avLst/>
          </a:prstGeom>
          <a:ln w="0">
            <a:noFill/>
          </a:ln>
        </p:spPr>
      </p:pic>
      <p:sp>
        <p:nvSpPr>
          <p:cNvPr id="330" name="WordArt 3"/>
          <p:cNvSpPr txBox="1"/>
          <p:nvPr/>
        </p:nvSpPr>
        <p:spPr>
          <a:xfrm>
            <a:off x="3556080" y="1371600"/>
            <a:ext cx="227484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Than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31" name="WordArt 4"/>
          <p:cNvSpPr txBox="1"/>
          <p:nvPr/>
        </p:nvSpPr>
        <p:spPr>
          <a:xfrm>
            <a:off x="5587920" y="2819520"/>
            <a:ext cx="1684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 Rounded MT Bold"/>
              </a:rPr>
              <a:t>Scatter diagram of weight and systolic blood pressure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0" y="0"/>
          <a:ext cx="8893080" cy="53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93080" cy="53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4"/>
          <p:cNvGraphicFramePr/>
          <p:nvPr/>
        </p:nvGraphicFramePr>
        <p:xfrm>
          <a:off x="4500720" y="0"/>
          <a:ext cx="4643280" cy="907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0"/>
                    <a:ext cx="464328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2"/>
          <p:cNvGraphicFramePr/>
          <p:nvPr/>
        </p:nvGraphicFramePr>
        <p:xfrm>
          <a:off x="0" y="0"/>
          <a:ext cx="91058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058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3"/>
          <p:cNvSpPr/>
          <p:nvPr/>
        </p:nvSpPr>
        <p:spPr>
          <a:xfrm>
            <a:off x="900000" y="580536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99"/>
                </a:solidFill>
                <a:latin typeface="Arial"/>
              </a:rPr>
              <a:t>Scatter diagram of weight and systolic blood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Arial"/>
              </a:rPr>
              <a:t>Scatter plot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pattern of data is indicative of the type of relationship between your two variabl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relation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relation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relation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ositive relation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116000" y="1330200"/>
            <a:ext cx="691200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6:56:47Z</dcterms:created>
  <dc:creator>Moataza Mahmoud Abdel Wahab</dc:creator>
  <dc:description/>
  <dc:language>en-US</dc:language>
  <cp:lastModifiedBy>Rahman</cp:lastModifiedBy>
  <dcterms:modified xsi:type="dcterms:W3CDTF">2018-01-17T15:44:47Z</dcterms:modified>
  <cp:revision>223</cp:revision>
  <dc:subject/>
  <dc:title>Correlation &amp; Regression</dc:title>
</cp:coreProperties>
</file>