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90F3-5B35-4051-A27B-473666A967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5DC-F766-46ED-B091-120812FD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2324-89AC-4407-920D-1E7FB35F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CBC5-49F3-43C3-AEC8-B0930708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7028-F189-4A0C-AE4B-1834D1E6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8A44-6D9E-410C-A8B6-24C5952F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4F09-8701-4021-91C2-CF7C088E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6FD8-CA8D-4DEA-BD69-E740F3D6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6BA3-ABC6-410C-8236-4BD650ED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22E4-4744-4328-8F8B-1801F2D2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DCA7-3E8B-4FB0-8677-B957D3F2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9CAA-14B0-493A-8DEA-762688F735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8640"/>
            <a:ext cx="8152920" cy="1599840"/>
            <a:chOff x="457200" y="99864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840" y="998640"/>
              <a:ext cx="572328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42" y="0"/>
                  </a:moveTo>
                  <a:arcTo wR="10800" hR="10800" stAng="-5386653" swAng="108516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42" y="0"/>
                  </a:moveTo>
                  <a:arcTo wR="10800" hR="10800" stAng="-5386653" swAng="10851602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63520"/>
              <a:ext cx="572688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30" y="0"/>
                  </a:moveTo>
                  <a:arcTo wR="10800" hR="10800" stAng="-5390472" swAng="10855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30" y="0"/>
                  </a:moveTo>
                  <a:arcTo wR="10800" hR="10800" stAng="-5390472" swAng="10855418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0920" y="1384200"/>
              <a:ext cx="572328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30" y="0"/>
                  </a:moveTo>
                  <a:arcTo wR="10800" hR="10800" stAng="-5390467" swAng="108555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30" y="0"/>
                  </a:moveTo>
                  <a:arcTo wR="10800" hR="10800" stAng="-5390467" swAng="10855535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77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3885840" y="63244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2000 Harcourt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457200" y="2370240"/>
            <a:ext cx="8152920" cy="1599840"/>
            <a:chOff x="457200" y="2370240"/>
            <a:chExt cx="8152920" cy="1599840"/>
          </a:xfrm>
        </p:grpSpPr>
        <p:sp>
          <p:nvSpPr>
            <p:cNvPr id="45" name=""/>
            <p:cNvSpPr/>
            <p:nvPr/>
          </p:nvSpPr>
          <p:spPr>
            <a:xfrm>
              <a:off x="2886840" y="2370240"/>
              <a:ext cx="572328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42" y="0"/>
                  </a:moveTo>
                  <a:arcTo wR="10800" hR="10800" stAng="-5386653" swAng="108516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42" y="0"/>
                  </a:moveTo>
                  <a:arcTo wR="10800" hR="10800" stAng="-5386653" swAng="10851602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11960" y="2535120"/>
              <a:ext cx="572688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30" y="0"/>
                  </a:moveTo>
                  <a:arcTo wR="10800" hR="10800" stAng="-5390472" swAng="10855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30" y="0"/>
                  </a:moveTo>
                  <a:arcTo wR="10800" hR="10800" stAng="-5390472" swAng="10855418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70920" y="2755800"/>
              <a:ext cx="572328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30" y="0"/>
                  </a:moveTo>
                  <a:arcTo wR="10800" hR="10800" stAng="-5390467" swAng="108555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30" y="0"/>
                  </a:moveTo>
                  <a:arcTo wR="10800" hR="10800" stAng="-5390467" swAng="10855535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77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AD22-CF0C-4D28-8E10-6254DA25EF5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ploring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Marketing Research</a:t>
            </a:r>
            <a:br>
              <a:rPr sz="4400"/>
            </a:br>
            <a:br>
              <a:rPr sz="4400"/>
            </a:b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William G. Zikmund</a:t>
            </a:r>
            <a:br>
              <a:rPr sz="2800"/>
            </a:b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16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pling Design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Sampling Proced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Systematic Erro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nsampling err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representative sample 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due to ch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ue to study design or imperfections in execu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Errors Associated with Sampl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pling Frame Err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ndom Sampling Err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nresponse Err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Two Major Categories of Sampl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ability Sampl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nown, nonzero probability for every el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nprobability Sampl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bability of selecting any particular member is unknow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Nonprobability Sampl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veni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udg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o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nowba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Probability Sampl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mple Random Sa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ystematic Sa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atified Sa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uster Sa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ultistage Area Sa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Convenience Sampling</a:t>
            </a:r>
            <a:br>
              <a:rPr sz="4800"/>
            </a:b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so called haphazard or accidental sampl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sampling procedure of obtaining the people or units that are most conveniently avail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Judgment Sampling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so called purposive  sampling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experienced individual selects the sample based on his or her judgment about some appropriate characteristics required  of the sample memb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Quota Sampling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sures  that the various subgroups in a population are represented on pertinent sample characteristic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the exact extent that the investigators desi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should not be confused with stratified sampl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Snowball Sampling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variety of procedur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itial respondents are selected by probability method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itional respondents are obtained from information provided by the initial respond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Simple Random Sampling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sampling procedure that ensures that each element in the population will have an equal chance of being included in the sa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S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set of a larger pop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Systematic Sampling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simple proc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very  nth name from the list will be draw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Stratified Sampl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ability sa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samples are drawn within different str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ach stratum is more or less equal on some characterist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 not confuse with quota sa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Cluster Sampl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purpose of cluster sampling is to sample economically while retaining the characteristics of a probability samp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primary sampling unit is no longer the individual element in the populati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primary sampling unit is a larger cluster of elements located in proximity to one another</a:t>
            </a:r>
            <a:r>
              <a:rPr b="0" lang="en-US" sz="2800" spc="-1" strike="noStrike">
                <a:solidFill>
                  <a:srgbClr val="ffffcc"/>
                </a:solidFill>
                <a:latin typeface="Courier New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54920" y="2131920"/>
            <a:ext cx="7489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Population Element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Possible Clusters in the United Stat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2438280"/>
            <a:ext cx="7689960" cy="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4400" y="2795760"/>
            <a:ext cx="6683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U.S. adult population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tat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unt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etropolitan Statistical Are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ensus trac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Block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ousehol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7800" y="966960"/>
            <a:ext cx="380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Examples of Clus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07560" y="2436840"/>
            <a:ext cx="7489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Population Element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Possible Clusters in the United Stat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2280" y="2743200"/>
            <a:ext cx="7689600" cy="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01080" y="3024360"/>
            <a:ext cx="67975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llege senio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lleg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anufacturing firm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unt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etropolitan Statistical Are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Localit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lan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77800" y="966960"/>
            <a:ext cx="380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Examples of Clus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54920" y="2055960"/>
            <a:ext cx="7489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Population Element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Possible Clusters in the United Stat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2362320"/>
            <a:ext cx="7689960" cy="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8440" y="2643120"/>
            <a:ext cx="56545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irline travele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irpor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la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ports fan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Football stadium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Basketball aren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Baseball park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77800" y="966960"/>
            <a:ext cx="380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Examples of Clus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at is the </a:t>
            </a:r>
            <a:br>
              <a:rPr sz="4400"/>
            </a:b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Appropriate Sample Design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gree of Accura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our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vanced Knowledge of the Pop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tional versus Loc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ed for Statistical Analy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After the Sample Design </a:t>
            </a:r>
            <a:br>
              <a:rPr sz="4400"/>
            </a:b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is Selecte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termine sample si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lect actual sample uni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duct fieldwor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Popul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y Complete Grou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o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ales Territor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or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Cens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vestigation of all individual elements that make up a pop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343400" y="3048120"/>
            <a:ext cx="4241880" cy="34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825640" y="615960"/>
            <a:ext cx="379728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24280" y="668160"/>
            <a:ext cx="3600360" cy="416160"/>
          </a:xfrm>
          <a:prstGeom prst="rect">
            <a:avLst/>
          </a:prstGeom>
          <a:solidFill>
            <a:srgbClr val="0000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16080" y="714240"/>
            <a:ext cx="34164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Define the target popul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25640" y="1454040"/>
            <a:ext cx="3797280" cy="52092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24280" y="1506600"/>
            <a:ext cx="360036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Select a sampling fram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5640" y="5721480"/>
            <a:ext cx="3797280" cy="520560"/>
          </a:xfrm>
          <a:prstGeom prst="rect">
            <a:avLst/>
          </a:prstGeom>
          <a:solidFill>
            <a:srgbClr val="99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24280" y="5773680"/>
            <a:ext cx="360036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Conduct fieldwor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2362320"/>
            <a:ext cx="3797280" cy="52056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17800" y="2414520"/>
            <a:ext cx="360036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Determine if a probability or nonprobability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sampling method will be chose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25640" y="3206880"/>
            <a:ext cx="3797280" cy="520560"/>
          </a:xfrm>
          <a:prstGeom prst="rect">
            <a:avLst/>
          </a:prstGeom>
          <a:solidFill>
            <a:srgbClr val="00cc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24280" y="3259080"/>
            <a:ext cx="360036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Plan procedure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for selecting sampling unit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25640" y="4044960"/>
            <a:ext cx="3797280" cy="520560"/>
          </a:xfrm>
          <a:prstGeom prst="rect">
            <a:avLst/>
          </a:prstGeom>
          <a:solidFill>
            <a:srgbClr val="00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4280" y="4097160"/>
            <a:ext cx="360036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Determine sample siz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25640" y="4883040"/>
            <a:ext cx="3797280" cy="5209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24280" y="4935600"/>
            <a:ext cx="360036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Select actual sampling unit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160" y="380880"/>
            <a:ext cx="249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Stages in th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Sele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of a S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1987560"/>
            <a:ext cx="0" cy="37476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5416560"/>
            <a:ext cx="0" cy="29844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4578480"/>
            <a:ext cx="0" cy="29844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3740040"/>
            <a:ext cx="0" cy="29844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2901960"/>
            <a:ext cx="0" cy="29844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1149480"/>
            <a:ext cx="0" cy="37440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Target Popul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levant Pop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perationally Def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ic Book Reader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Sampling Fra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list of elements from which the sample may be draw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king Pop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iling Lists - Data Base Market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pling Frame Err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Sampling Uni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oup selected for the sa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imary Sampling Units (PSU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ary Sampling Uni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rtiary Sampling Uni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Random Sampling Erro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difference between the sample results and the result of a census conducted using identical proced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tistical fluctuation due to chance vari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4T16:38:22Z</dcterms:created>
  <dc:creator>Tobin Zikmund</dc:creator>
  <dc:description/>
  <dc:language>en-US</dc:language>
  <cp:lastModifiedBy>Villanova University</cp:lastModifiedBy>
  <cp:lastPrinted>1998-05-04T18:29:12Z</cp:lastPrinted>
  <dcterms:modified xsi:type="dcterms:W3CDTF">2002-03-11T21:51:35Z</dcterms:modified>
  <cp:revision>31</cp:revision>
  <dc:subject/>
  <dc:title>Sampling Designs and Sampling Procedures</dc:title>
</cp:coreProperties>
</file>