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0FB1-17FC-4B26-9A1A-2A8E9DAE0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CA65-62C0-4160-9D6C-C8A9A6BAA8C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EAEA-96D3-4D88-A146-E7C850C1CEB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4C78-7A57-4F2D-AFA8-328D78CF6CD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8242-A4AF-4AAC-B2EA-7D006F7F3E6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2F9F-9217-4571-AC27-CD712836E2C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72BB-F20C-4FF6-A642-B898BF7A30D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CF7D-CC41-46A4-89B4-F3D793BCEB7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9A7-37A5-4787-A893-A04B3A8086B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513-B119-4254-B712-9B06F407FD8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67FB-F60D-49BC-BB8B-6CB66DF016A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8124-9656-4FBD-A53B-D0E5B35B1C4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C042-D01F-4407-8274-5AEE726D023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9285-34A9-491F-9A95-9A7D2EF8843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D45B-14AA-43EC-B8AC-D71F74F2B65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EAA-5AFF-43C2-A781-956079C3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361-9354-4DC6-B74A-5EA96FE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897-0063-4699-B57B-30122E89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D7A-C3F6-4CED-80FF-8A4424F8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313-2472-4447-827F-B53B8DC4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08D-B724-4FF2-B566-BA949FCD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E72-038A-4670-9314-F1BEE5C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261-854B-4410-96D6-59CFADAB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370-89E4-489F-B46E-FCE1BE3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0A1-4A25-4B4E-B7C0-144B4CA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093-A8BD-4C84-B790-FAA5864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9EF-3796-4983-BD0B-E04A473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30F-F466-4A11-BDC5-D6DE1A615C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1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ation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servation of Human Behavi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e phenomena cannot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l activity can be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ly short periods can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invasion of priv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r bias possible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istortion in measurement due to cognitive behavior or actions of an observ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pretation of data may be a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serving Social Sett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96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he participant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he setting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he purpo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he social behavior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stimulus / event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ts apparent objectiv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ype of behavior (talking, word processing, gesturing etc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Quality (intensity, persistence, unusualness, appropriateness, duration, affectivity, mannerism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ts effects (for example others reaction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Frequency and dura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026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2146320" cy="3137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servation of Physical Obj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-trace evidence : </a:t>
            </a:r>
            <a:r>
              <a:rPr b="0" i="1" lang="en-US" sz="3200" spc="-1" strike="noStrike">
                <a:solidFill>
                  <a:srgbClr val="e5e500"/>
                </a:solidFill>
                <a:latin typeface="Times New Roman"/>
              </a:rPr>
              <a:t>Wear and tear of a book  indicates how often it has been re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ponse Laten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ing the decision time necessary to make a choice between two altern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presumed  to indicate the strength of preference between alternati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" name="Object 1028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186516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ent Analysis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tains data by observing and analyzing the content of advertisements, letters, article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als with the study of the message itsel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the extent of emphasis or omiss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334120" y="4648320"/>
            <a:ext cx="25272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chanical Obser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ffic Coun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b Traff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nn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me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ysiological Meas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4648320" y="2325600"/>
          <a:ext cx="384156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25600"/>
                    <a:ext cx="38415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itoring Web Site Traff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ts and page 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piter Media Metr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elsen//NetRating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ysiological Re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ye tra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pilo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galvano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ice pit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ye Tracking Moni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 how the subject actually reads or views an advertis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 unconscious eye movemen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pilome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device observes and records changes in the diameter of the subject’s pupi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6060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34120" y="2362320"/>
          <a:ext cx="3151080" cy="31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3151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376200" y="2514600"/>
            <a:ext cx="4359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SEE, BUT YOU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NOT OBSERVE.”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erlock Hol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ientific Observation Is Systemat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sychogalvanome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galvanic skin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oluntary changes in the electrical resistance of the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umption: physiological changes accompany emotional re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oice Pitch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emotional reactions through physiological changes in a person’s vo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4034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ystematic process of recording behavioral patterns of people, objects, and occurrences as they are witnessed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59"/>
                </a:solidFill>
                <a:latin typeface="Times New Roman"/>
              </a:rPr>
              <a:t>All phenomenon which can be seen through any mean can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73800" y="1219320"/>
            <a:ext cx="491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henomen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6200" y="2057400"/>
            <a:ext cx="7175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man behavior or 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ppers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ttern in a st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bal behavi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ments mad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line travelers who wa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ressive behavi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cial expressions, ton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ice, and other form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dy langu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Can Be Observ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26"/>
          <p:cNvSpPr/>
          <p:nvPr/>
        </p:nvSpPr>
        <p:spPr>
          <a:xfrm>
            <a:off x="973800" y="1219320"/>
            <a:ext cx="590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henomen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Rectangle 1027"/>
          <p:cNvSpPr/>
          <p:nvPr/>
        </p:nvSpPr>
        <p:spPr>
          <a:xfrm>
            <a:off x="679680" y="2133720"/>
            <a:ext cx="77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atial rel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close visitors at 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loc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t museum stand to paint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mporal patter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long fast-food 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it for their order to be serv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ysical objec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brand name items a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red in consumers’ pa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bal and Pictori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r codes on product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Can Be Observ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bal and Non-verbal behavior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1600200"/>
            <a:ext cx="823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ench researcher hypothesis: </a:t>
            </a:r>
            <a:r>
              <a:rPr b="0" i="1" lang="en-US" sz="2400" spc="-1" strike="noStrike">
                <a:solidFill>
                  <a:srgbClr val="ffff59"/>
                </a:solidFill>
                <a:latin typeface="Times New Roman"/>
              </a:rPr>
              <a:t>working men vs working wom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ys manufactur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les persons behavior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ature of transaction or number of 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servation may amplify the results of other forms of research by providing complementary evidence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and lotion group ses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egories of Obser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 versus mechani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sible versus hidden: </a:t>
            </a:r>
            <a:r>
              <a:rPr b="0" i="1" lang="en-US" sz="3200" spc="-1" strike="noStrike">
                <a:solidFill>
                  <a:srgbClr val="ffff59"/>
                </a:solidFill>
                <a:latin typeface="Times New Roman"/>
              </a:rPr>
              <a:t>if subjects know or don’t know about being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: </a:t>
            </a:r>
            <a:r>
              <a:rPr b="0" i="1" lang="en-US" sz="3200" spc="-1" strike="noStrike">
                <a:solidFill>
                  <a:srgbClr val="ffff59"/>
                </a:solidFill>
                <a:latin typeface="Times New Roman"/>
              </a:rPr>
              <a:t>observation in natural setting without any artificial set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ived: </a:t>
            </a:r>
            <a:r>
              <a:rPr b="0" i="1" lang="en-US" sz="3200" spc="-1" strike="noStrike">
                <a:solidFill>
                  <a:srgbClr val="ffff59"/>
                </a:solidFill>
                <a:latin typeface="Times New Roman"/>
              </a:rPr>
              <a:t>The creation of an artificial environment to test a hypothesis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ystery shoppers</a:t>
            </a:r>
            <a:r>
              <a:rPr b="0" i="1" lang="en-US" sz="3200" spc="-1" strike="noStrike">
                <a:solidFill>
                  <a:srgbClr val="ffff5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ticipant Observation:</a:t>
            </a:r>
            <a:r>
              <a:rPr b="0" i="1" lang="en-US" sz="3200" spc="-1" strike="noStrike">
                <a:solidFill>
                  <a:srgbClr val="ffff59"/>
                </a:solidFill>
                <a:latin typeface="Times New Roman"/>
              </a:rPr>
              <a:t> observer being in or around the social setting being investiga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servation of Human Behavi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munication with respondent is not necess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without distortions due to self-report (e.g.: without social desirability)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rely on respondents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verbal behavior data may be obtai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servation of Human Behavi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tain data may be obtained more quick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vironmental conditions may be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be combined with survey to provide supplemental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0:38:10Z</dcterms:created>
  <dc:creator>zikmund</dc:creator>
  <dc:description/>
  <dc:language>en-US</dc:language>
  <cp:lastModifiedBy>hAMID ALI SHAH</cp:lastModifiedBy>
  <dcterms:modified xsi:type="dcterms:W3CDTF">2017-04-14T06:02:26Z</dcterms:modified>
  <cp:revision>32</cp:revision>
  <dc:subject>Chapter 11</dc:subject>
  <dc:title>Business  Research Methods  William G. Zikmund </dc:title>
</cp:coreProperties>
</file>