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145-81A0-472E-AFCB-1F9FE303BA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9CB-C3A5-453C-8A3B-7AD259F4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FF6-8141-4E70-B35C-57C4B1F0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95A-30B9-4DE3-A10B-4A0C9528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2B9-6271-449B-B19F-B5572F71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6E6-6A96-4C8A-BFD9-6D2F6055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1A58-61BA-41A1-B30C-1D5888EA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C5D-CD47-458D-9E4A-3E5B4DD5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B50-15C6-412A-83C6-A0ED6A8B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9F6-18E6-4A59-B93F-F6A8C5BB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C50-C09F-4112-8ECD-671F15E6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AD0-2774-4099-B312-3B8056B1EB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6840"/>
            <a:ext cx="8152920" cy="1599840"/>
            <a:chOff x="457200" y="9968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120" y="996840"/>
              <a:ext cx="572400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30" y="0"/>
                  </a:moveTo>
                  <a:arcTo wR="10800" hR="10800" stAng="-5390467" swAng="10851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30" y="0"/>
                  </a:moveTo>
                  <a:arcTo wR="10800" hR="10800" stAng="-5390467" swAng="10851595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62080"/>
              <a:ext cx="57268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8" y="0"/>
                  </a:moveTo>
                  <a:arcTo wR="10800" hR="10800" stAng="-5394283" swAng="108554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8" y="0"/>
                  </a:moveTo>
                  <a:arcTo wR="10800" hR="10800" stAng="-5394283" swAng="1085541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8276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8" y="0"/>
                  </a:moveTo>
                  <a:arcTo wR="10800" hR="10800" stAng="-5394280" swAng="108555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8" y="0"/>
                  </a:moveTo>
                  <a:arcTo wR="10800" hR="10800" stAng="-5394280" swAng="10855522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81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457200" y="2368440"/>
            <a:ext cx="8152920" cy="1599840"/>
            <a:chOff x="457200" y="2368440"/>
            <a:chExt cx="8152920" cy="1599840"/>
          </a:xfrm>
        </p:grpSpPr>
        <p:sp>
          <p:nvSpPr>
            <p:cNvPr id="45" name=""/>
            <p:cNvSpPr/>
            <p:nvPr/>
          </p:nvSpPr>
          <p:spPr>
            <a:xfrm>
              <a:off x="2886120" y="2368440"/>
              <a:ext cx="572400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30" y="0"/>
                  </a:moveTo>
                  <a:arcTo wR="10800" hR="10800" stAng="-5390467" swAng="10851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30" y="0"/>
                  </a:moveTo>
                  <a:arcTo wR="10800" hR="10800" stAng="-5390467" swAng="10851595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11960" y="2533680"/>
              <a:ext cx="57268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8" y="0"/>
                  </a:moveTo>
                  <a:arcTo wR="10800" hR="10800" stAng="-5394283" swAng="108554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8" y="0"/>
                  </a:moveTo>
                  <a:arcTo wR="10800" hR="10800" stAng="-5394283" swAng="1085541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71280" y="275436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8" y="0"/>
                  </a:moveTo>
                  <a:arcTo wR="10800" hR="10800" stAng="-5394280" swAng="108555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8" y="0"/>
                  </a:moveTo>
                  <a:arcTo wR="10800" hR="10800" stAng="-5394280" swAng="10855522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81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4E90-FA68-4A2D-97EA-0785A2B27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66"/>
                </a:solidFill>
                <a:latin typeface="Times New Roman"/>
              </a:rPr>
              <a:t>Exploring</a:t>
            </a:r>
            <a:br>
              <a:rPr sz="4400"/>
            </a:br>
            <a:r>
              <a:rPr b="0" i="1" lang="en-US" sz="4400" spc="-1" strike="noStrike">
                <a:solidFill>
                  <a:srgbClr val="cc0066"/>
                </a:solidFill>
                <a:latin typeface="Times New Roman"/>
              </a:rPr>
              <a:t> Marketing Research</a:t>
            </a:r>
            <a:br>
              <a:rPr sz="4400"/>
            </a:b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lliam G. Zikmund</a:t>
            </a:r>
            <a:br>
              <a:rPr sz="2800"/>
            </a:br>
            <a:endParaRPr b="0" i="1" lang="en-US" sz="2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20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Data Analysi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Cross-Tabulation</a:t>
            </a:r>
            <a:br>
              <a:rPr sz="4400"/>
            </a:b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chnique for organizing data by groups, categories, or classes, thus facilitating comparisons; a joint frequency distribution of observations on two or more sets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gency table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s of a cross-tabulation of two variables, such as survey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Cross-Tabulation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data by groups or 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dif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gency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ntage cross-tab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Base</a:t>
            </a:r>
            <a:br>
              <a:rPr sz="4400"/>
            </a:b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respondents or observations (in a row or column) used as a basis for computing perce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Elaboration and Refinement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ator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hird variable that, when introduced into an analysis, alters or has a contingent effect on the relationship between an independent variable and a dependent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urious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arent relationship between two variables that is not authen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Quadrant Analysis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2440" y="2374920"/>
            <a:ext cx="2654280" cy="2197080"/>
          </a:xfrm>
          <a:prstGeom prst="hexagon">
            <a:avLst>
              <a:gd name="adj" fmla="val 30163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03400" y="2870280"/>
            <a:ext cx="1116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4240" y="3137040"/>
            <a:ext cx="2654280" cy="2197080"/>
          </a:xfrm>
          <a:prstGeom prst="hexagon">
            <a:avLst>
              <a:gd name="adj" fmla="val 30163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88320" y="3648240"/>
            <a:ext cx="2591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quad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43760" y="3975120"/>
            <a:ext cx="2654280" cy="2197080"/>
          </a:xfrm>
          <a:prstGeom prst="hexagon">
            <a:avLst>
              <a:gd name="adj" fmla="val 30163"/>
              <a:gd name="vf" fmla="val 115470"/>
            </a:avLst>
          </a:prstGeom>
          <a:solidFill>
            <a:srgbClr val="99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5680" y="4486320"/>
            <a:ext cx="2047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anc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Data Transformation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n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the original form of the data to a ne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appropriate data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Data Transformation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tive Score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1 + VAR2 + VA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Collapsing a Five-Point Scale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ly 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ther Agree nor 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ly 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ly Agree/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ther Agree nor 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gree/Strongly 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Index Numbers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 or observation recalibrated to indicate how it relates to a bas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I - Consumer Price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Calculating Rank Order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in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d P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Descriptive Analysis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formation of raw data into a form that will make them easy to understand and interpret; rearranging, ordering, and manipulating data to generate descriptiv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Tables</a:t>
            </a:r>
            <a:r>
              <a:rPr b="0" i="1" lang="en-US" sz="4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nerheads for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heads for 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Charts and Graphs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e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4838760" cy="3886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124080" y="609588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6723360" cy="3467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561600" y="2266920"/>
            <a:ext cx="3257640" cy="689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7560" y="1038240"/>
            <a:ext cx="47055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Lin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828800" y="2362320"/>
          <a:ext cx="6135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62320"/>
                    <a:ext cx="6135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9801360" y="884160"/>
            <a:ext cx="3114720" cy="689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7560" y="923760"/>
            <a:ext cx="49942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Bar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Computer Programs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Exc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Computer Programs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x and Whisker Pl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quartile range - midsp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Interpretation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of making pertinent inferences and drawing 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ing the meaning and implications of a research inves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92280" y="1073160"/>
            <a:ext cx="1968480" cy="90180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Ty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8240" y="3892680"/>
            <a:ext cx="1968480" cy="90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No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6880" y="3206880"/>
            <a:ext cx="1968480" cy="90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4654440"/>
            <a:ext cx="1968480" cy="9018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More th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two 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8840" y="2978280"/>
            <a:ext cx="2882880" cy="27302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Frequency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Proportion (percent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Frequency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Category propor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(percenta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8840" y="1073160"/>
            <a:ext cx="2806920" cy="97776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Typ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descriptiv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1986120"/>
            <a:ext cx="0" cy="190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43720" y="4267080"/>
            <a:ext cx="2814480" cy="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7880" y="4343400"/>
            <a:ext cx="30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52800" y="3581280"/>
            <a:ext cx="14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358632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52800" y="5105520"/>
            <a:ext cx="14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6520" y="3657600"/>
            <a:ext cx="37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6520" y="5105520"/>
            <a:ext cx="37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062080"/>
            <a:ext cx="0" cy="90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819520"/>
            <a:ext cx="1968480" cy="90144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Ty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2819520"/>
            <a:ext cx="2806560" cy="97776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Typ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descriptiv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419720"/>
            <a:ext cx="1968480" cy="90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Or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4419720"/>
            <a:ext cx="2806560" cy="97776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Rank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1760" y="4870440"/>
            <a:ext cx="2814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0040" y="3732120"/>
            <a:ext cx="0" cy="68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04160" y="38084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2895480"/>
            <a:ext cx="1968480" cy="90180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Ty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895480"/>
            <a:ext cx="2806560" cy="97812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Typ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descriptiv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495680"/>
            <a:ext cx="1968480" cy="9018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4495680"/>
            <a:ext cx="2806560" cy="9781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Arithmetic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1760" y="4946760"/>
            <a:ext cx="2814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0040" y="3808440"/>
            <a:ext cx="0" cy="68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04160" y="388476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2971800"/>
            <a:ext cx="1968480" cy="90180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Ty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971800"/>
            <a:ext cx="2806560" cy="97776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Typ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descriptiv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572000"/>
            <a:ext cx="1968480" cy="9018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572000"/>
            <a:ext cx="3041640" cy="97776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Index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Geometric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Harmonic m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5022720"/>
            <a:ext cx="2813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0040" y="3886200"/>
            <a:ext cx="0" cy="67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04160" y="3962520"/>
            <a:ext cx="0" cy="60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Tabulation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ulation - Orderly arrangement of data in a table or other summary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Frequency Table</a:t>
            </a:r>
            <a:endParaRPr b="0" i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rangement of statistical data in a row-and-column format that exhibits the count of responses or observations for each category assigned to a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0  by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2514600"/>
            <a:ext cx="8211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of Sc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enc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al or 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8640" y="3809880"/>
            <a:ext cx="7996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0080" y="685800"/>
            <a:ext cx="35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Times New Roman"/>
              </a:rPr>
              <a:t>Central Tend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0T16:02:46Z</dcterms:created>
  <dc:creator>Tobin Zikmund</dc:creator>
  <dc:description/>
  <dc:language>en-US</dc:language>
  <cp:lastModifiedBy>Villanova University</cp:lastModifiedBy>
  <dcterms:modified xsi:type="dcterms:W3CDTF">2002-03-22T19:11:33Z</dcterms:modified>
  <cp:revision>69</cp:revision>
  <dc:subject/>
  <dc:title>Basic Data Analysis</dc:title>
</cp:coreProperties>
</file>