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C8531-8D63-40B7-92A4-F2F64E3F2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B7C28-9214-44A2-9274-B8A6990E4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63F07-455D-458D-A996-B9D1CD8D0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2D26C-DD20-49BC-AB01-B5D15240C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FF8C6-BE96-4923-9260-D7E49B17F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C3D1-D11D-4329-A512-9E9594243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59411-C4E7-4373-8362-EC1330730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67E5-DF8E-40F0-B093-666DA65F3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7604C-B610-4A72-8022-9F4DF8875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E303-77D4-4C8E-BC73-793F2FEE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32BC-0AB8-4D79-B742-09ABAEFC9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6223-EE9B-432E-AE27-9DD49CB3F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0BAF-A0E1-4738-8F18-8EA5FDC2B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Business</a:t>
            </a:r>
            <a:br>
              <a:rPr sz="4400"/>
            </a:br>
            <a:r>
              <a:rPr b="0" lang="en-US" sz="4400" spc="-1" strike="noStrike">
                <a:solidFill>
                  <a:srgbClr val="0066ff"/>
                </a:solidFill>
                <a:latin typeface="Times New Roman"/>
              </a:rPr>
              <a:t>Research Methods</a:t>
            </a:r>
            <a:br>
              <a:rPr sz="4400"/>
            </a:br>
            <a:br>
              <a:rPr sz="4400"/>
            </a:br>
            <a:r>
              <a:rPr b="0" lang="en-US" sz="2800" spc="-1" strike="noStrike">
                <a:solidFill>
                  <a:srgbClr val="000000"/>
                </a:solidFill>
                <a:latin typeface="Times New Roman"/>
              </a:rPr>
              <a:t>William G. Zikmund</a:t>
            </a:r>
            <a:br>
              <a:rPr sz="2800"/>
            </a:br>
            <a:endParaRPr b="0" lang="en-US" sz="2800" spc="-1" strike="noStrike">
              <a:solidFill>
                <a:srgbClr val="0066ff"/>
              </a:solidFill>
              <a:latin typeface="Times New Roman"/>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5: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Design   </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p:nvPr/>
        </p:nvSpPr>
        <p:spPr>
          <a:xfrm>
            <a:off x="519120" y="819000"/>
            <a:ext cx="8319960" cy="425052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Avoid Complexity: use simple, conversational                     </a:t>
            </a:r>
            <a:r>
              <a:rPr b="0" lang="en-US" sz="2600" spc="-1" strike="noStrike">
                <a:solidFill>
                  <a:srgbClr val="000000"/>
                </a:solidFill>
                <a:latin typeface="Times New Roman"/>
              </a:rPr>
              <a:t>	</a:t>
            </a:r>
            <a:r>
              <a:rPr b="0" lang="en-US" sz="2600" spc="-1" strike="noStrike">
                <a:solidFill>
                  <a:srgbClr val="000000"/>
                </a:solidFill>
                <a:latin typeface="Times New Roman"/>
              </a:rPr>
              <a:t>language</a:t>
            </a:r>
            <a:endParaRPr b="0" lang="en-US" sz="26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void leading and loaded questions</a:t>
            </a:r>
            <a:endParaRPr b="0" lang="en-US" sz="26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void ambiguity: be as specific as possible</a:t>
            </a:r>
            <a:endParaRPr b="0" lang="en-US" sz="26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void double-barreled items</a:t>
            </a:r>
            <a:endParaRPr b="0" lang="en-US" sz="26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void making assumptions</a:t>
            </a:r>
            <a:endParaRPr b="0" lang="en-US" sz="26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void burdensome questions</a:t>
            </a:r>
            <a:endParaRPr b="0" lang="en-US" sz="2600" spc="-1" strike="noStrike">
              <a:solidFill>
                <a:srgbClr val="000000"/>
              </a:solidFill>
              <a:latin typeface="Times New Roman"/>
            </a:endParaRPr>
          </a:p>
        </p:txBody>
      </p:sp>
      <p:pic>
        <p:nvPicPr>
          <p:cNvPr id="70" name="" descr=""/>
          <p:cNvPicPr/>
          <p:nvPr/>
        </p:nvPicPr>
        <p:blipFill>
          <a:blip r:embed="rId1"/>
          <a:stretch/>
        </p:blipFill>
        <p:spPr>
          <a:xfrm>
            <a:off x="5791320" y="3276720"/>
            <a:ext cx="3403440" cy="302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606240" y="2895480"/>
            <a:ext cx="815256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Do you believe that private citizens have the righ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wn firearms to defend themselves, their famili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from violent criminal atta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o</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ndeci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
          <p:cNvSpPr/>
          <p:nvPr/>
        </p:nvSpPr>
        <p:spPr>
          <a:xfrm>
            <a:off x="453240" y="2590920"/>
            <a:ext cx="823644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o you believe that a ban on the private ownersh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firearms would be significantly reduce the numbe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rders and robberies in your commun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o</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ndeci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p:nvPr/>
        </p:nvSpPr>
        <p:spPr>
          <a:xfrm>
            <a:off x="533520" y="2209680"/>
            <a:ext cx="794052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  How many years have you been playing tennis on a regular ba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years: 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What is your level of 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ice . . . . . . . . . .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Advanced . . . . . . .</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Intermediate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Expert   . . . . . . . . .</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Intermediate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Teaching Pro  . . . . </a:t>
            </a: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n the last 12 months, has your level of play improved, remained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me or decrea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 . . . . . .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Decreased. . . . . . . </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ed the same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4" name=""/>
          <p:cNvSpPr/>
          <p:nvPr/>
        </p:nvSpPr>
        <p:spPr>
          <a:xfrm>
            <a:off x="3375000" y="368784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375000" y="399240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375000" y="429732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184880" y="3687840"/>
            <a:ext cx="7495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84880" y="3992400"/>
            <a:ext cx="7495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184880" y="4297320"/>
            <a:ext cx="7495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375000" y="559260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75000" y="589752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84880" y="5592600"/>
            <a:ext cx="7495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
          <p:cNvSpPr/>
          <p:nvPr/>
        </p:nvSpPr>
        <p:spPr>
          <a:xfrm>
            <a:off x="455400" y="990720"/>
            <a:ext cx="8151120" cy="5386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  Do you belong to a club with tennis facilities?</a:t>
            </a:r>
            <a:r>
              <a:rPr b="0" lang="en-US" sz="1800" spc="-1" strike="noStrike">
                <a:solidFill>
                  <a:srgbClr val="000000"/>
                </a:solidFill>
                <a:latin typeface="Arial"/>
              </a:rPr>
              <a:t>	</a:t>
            </a:r>
            <a:r>
              <a:rPr b="0" lang="en-US" sz="1800" spc="-1" strike="noStrike">
                <a:solidFill>
                  <a:srgbClr val="000000"/>
                </a:solidFill>
                <a:latin typeface="Arial"/>
              </a:rPr>
              <a:t>Yes . . . . . . .</a:t>
            </a:r>
            <a:r>
              <a:rPr b="0"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  . . . . . . .</a:t>
            </a:r>
            <a:r>
              <a:rPr b="0" lang="en-US" sz="1800" spc="-1" strike="noStrike">
                <a:solidFill>
                  <a:srgbClr val="000000"/>
                </a:solidFill>
                <a:latin typeface="Arial"/>
              </a:rPr>
              <a:t>	</a:t>
            </a:r>
            <a:r>
              <a:rPr b="0" lang="en-US" sz="1800" spc="-1" strike="noStrike">
                <a:solidFill>
                  <a:srgbClr val="000000"/>
                </a:solidFill>
                <a:latin typeface="Arial"/>
              </a:rPr>
              <a:t>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How many people in your household - including yourself - play ten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who play tennis ___________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  Why do you play tennis? (Please “X” all that a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have fun . . . . .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stay fit.  . . . . . .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be with friends.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improve my game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ompete. . . . .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win. . . . . . . . . . . . . .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n the past 12 months, have you purchased any tennis instructi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oks  or video tap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Yes . . . . . . .</a:t>
            </a:r>
            <a:r>
              <a:rPr b="0"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  . . . . . . .</a:t>
            </a:r>
            <a:r>
              <a:rPr b="0" lang="en-US" sz="1800" spc="-1" strike="noStrike">
                <a:solidFill>
                  <a:srgbClr val="000000"/>
                </a:solidFill>
                <a:latin typeface="Arial"/>
              </a:rPr>
              <a:t>	</a:t>
            </a:r>
            <a:r>
              <a:rPr b="0" lang="en-US" sz="1800" spc="-1" strike="noStrike">
                <a:solidFill>
                  <a:srgbClr val="000000"/>
                </a:solidFill>
                <a:latin typeface="Arial"/>
              </a:rPr>
              <a:t>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7413480" y="1096920"/>
            <a:ext cx="7495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413480" y="1401840"/>
            <a:ext cx="7495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137120" y="323064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37120" y="353520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7120" y="384012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37120" y="414504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137120" y="444960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37120" y="4754520"/>
            <a:ext cx="7491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499080" y="5516640"/>
            <a:ext cx="749520" cy="198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499080" y="5821200"/>
            <a:ext cx="7495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p:nvPr/>
        </p:nvSpPr>
        <p:spPr>
          <a:xfrm>
            <a:off x="685800" y="2057400"/>
            <a:ext cx="8016840" cy="43614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r Passeng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Airlines is pleased to have you on board toda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help us provide the best service possible, we need to know more about you and your opinions of our service.  If you are over 11 years old, we would appreciate it if you would complete this questionnair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flight attendant will pick up your completed questionnaire shortl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nk you.</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
          <p:cNvSpPr/>
          <p:nvPr/>
        </p:nvSpPr>
        <p:spPr>
          <a:xfrm>
            <a:off x="380880" y="685800"/>
            <a:ext cx="8321760" cy="5886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lease indicate:  Flight number ___________ Date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  At the city where you boarded this particular plane, did you make a connection from another fl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es, from American . . . . </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es, from Other Airline . .</a:t>
            </a: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 . . . . . . . . . . . . . . . .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Did you board this plane at the airport from which it just took off, or were you a through passenger for which that was an intermediate st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arded here . . . . . . . . . .</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rough passenger. . . . . .</a:t>
            </a: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How would you rate the overall service from American for </a:t>
            </a:r>
            <a:r>
              <a:rPr b="0" lang="en-US" sz="2000" spc="-1" strike="noStrike" u="sng">
                <a:solidFill>
                  <a:srgbClr val="000000"/>
                </a:solidFill>
                <a:uFillTx/>
                <a:latin typeface="Arial"/>
              </a:rPr>
              <a:t>this</a:t>
            </a:r>
            <a:r>
              <a:rPr b="0" lang="en-US" sz="2000" spc="-1" strike="noStrike">
                <a:solidFill>
                  <a:srgbClr val="000000"/>
                </a:solidFill>
                <a:latin typeface="Arial"/>
              </a:rPr>
              <a:t> flight, all things considered, from your arrival at the airport terminal until n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cellent   Good    Fair    Po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Service . . . . . . . . .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2          3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283680" y="944640"/>
            <a:ext cx="845460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lease rate each of the following with regard to </a:t>
            </a:r>
            <a:r>
              <a:rPr b="0" lang="en-US" sz="2000" spc="-1" strike="noStrike" u="sng">
                <a:solidFill>
                  <a:srgbClr val="000000"/>
                </a:solidFill>
                <a:uFillTx/>
                <a:latin typeface="Arial"/>
              </a:rPr>
              <a:t>this</a:t>
            </a:r>
            <a:r>
              <a:rPr b="0" lang="en-US" sz="2000" spc="-1" strike="noStrike">
                <a:solidFill>
                  <a:srgbClr val="000000"/>
                </a:solidFill>
                <a:latin typeface="Arial"/>
              </a:rPr>
              <a:t> flight, if applic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4674600" y="1371600"/>
            <a:ext cx="3632040" cy="763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Good    Fair    Po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1           2         3        4</a:t>
            </a:r>
            <a:endParaRPr b="0" lang="en-US" sz="2400" spc="-1" strike="noStrike">
              <a:solidFill>
                <a:srgbClr val="000000"/>
              </a:solidFill>
              <a:latin typeface="Times New Roman"/>
            </a:endParaRPr>
          </a:p>
        </p:txBody>
      </p:sp>
      <p:sp>
        <p:nvSpPr>
          <p:cNvPr id="98" name=""/>
          <p:cNvSpPr/>
          <p:nvPr/>
        </p:nvSpPr>
        <p:spPr>
          <a:xfrm>
            <a:off x="974880" y="1881360"/>
            <a:ext cx="3978000" cy="371268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urtesy and Treatment from the:</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kycap at airport . . . . . . . . .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irport Ticket Counter Agent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Boarding Point (Gate) Agent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Flight Attendants . . . . . . . .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r Meal or Snack. . . . . . .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verage Service . . . . . . . .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at Comfort. . . . . . . . . . . . .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ry-On Stowage Space. .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bin Cleanliness  . . . . . . . .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ideo/Stereo Entertainment . . . . . .</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Time Departure  . . . . . . . . . . . . </a:t>
            </a:r>
            <a:endParaRPr b="0" lang="en-US" sz="1800" spc="-1" strike="noStrike">
              <a:solidFill>
                <a:srgbClr val="000000"/>
              </a:solidFill>
              <a:latin typeface="Times New Roman"/>
            </a:endParaRPr>
          </a:p>
        </p:txBody>
      </p:sp>
      <p:sp>
        <p:nvSpPr>
          <p:cNvPr id="99" name=""/>
          <p:cNvSpPr/>
          <p:nvPr/>
        </p:nvSpPr>
        <p:spPr>
          <a:xfrm>
            <a:off x="5035680" y="503568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35680" y="473076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40440" y="22924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02360" y="22924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035680" y="229248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02560" y="22924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035680" y="259704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035680" y="290196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035680" y="320688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35680" y="351144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035680" y="381636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035680" y="412128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35680" y="442584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35680" y="5340240"/>
            <a:ext cx="44424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102360" y="50356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02360" y="47307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02360" y="25970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02360" y="29019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02360" y="32068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102360" y="35114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02360" y="38163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102360" y="41212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102360" y="44258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02360" y="53402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940440" y="50356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40440" y="47307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940440" y="25970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40440" y="29019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40440" y="32068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940440" y="35114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940440" y="38163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40440" y="41212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940440" y="44258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40440" y="53402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702560" y="50356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02560" y="47307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702560" y="25970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702560" y="29019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702560" y="32068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702560" y="35114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702560" y="381636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702560" y="412128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702560" y="44258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702560" y="5340240"/>
            <a:ext cx="4446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Questionnaire Design</a:t>
            </a:r>
            <a:endParaRPr b="0" lang="en-US" sz="4400" spc="-1" strike="noStrike">
              <a:solidFill>
                <a:srgbClr val="0066ff"/>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sequ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bi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nel techniqu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bia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lay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Pretesting is Important</a:t>
            </a:r>
            <a:endParaRPr b="0" lang="en-US" sz="44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a:t>
            </a:r>
            <a:r>
              <a:rPr b="0" lang="en-US" sz="4400" spc="-1" strike="noStrike">
                <a:solidFill>
                  <a:srgbClr val="0066ff"/>
                </a:solidFill>
                <a:latin typeface="Times New Roman"/>
              </a:rPr>
              <a:t>It is not every question that deserves an answer.”</a:t>
            </a:r>
            <a:endParaRPr b="0" lang="en-US" sz="4400" spc="-1" strike="noStrike">
              <a:solidFill>
                <a:srgbClr val="0066ff"/>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us Syrus</a:t>
            </a:r>
            <a:br>
              <a:rPr sz="3200"/>
            </a:br>
            <a:r>
              <a:rPr b="0" lang="en-US" sz="3200" spc="-1" strike="noStrike">
                <a:solidFill>
                  <a:srgbClr val="000000"/>
                </a:solidFill>
                <a:latin typeface="Times New Roman"/>
              </a:rPr>
              <a:t>(roman,1st century B.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Layout for Internet Questionnaires</a:t>
            </a:r>
            <a:endParaRPr b="0" lang="en-US" sz="4400" spc="-1" strike="noStrike">
              <a:solidFill>
                <a:srgbClr val="0066ff"/>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al User Interface (G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ging </a:t>
            </a:r>
            <a:r>
              <a:rPr b="0" lang="en-US" sz="3200" spc="-1" strike="noStrike">
                <a:solidFill>
                  <a:srgbClr val="000000"/>
                </a:solidFill>
                <a:latin typeface="Times New Roman"/>
              </a:rPr>
              <a:t>layout going from screen to scre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crolling </a:t>
            </a:r>
            <a:r>
              <a:rPr b="0" lang="en-US" sz="3200" spc="-1" strike="noStrike">
                <a:solidFill>
                  <a:srgbClr val="000000"/>
                </a:solidFill>
                <a:latin typeface="Times New Roman"/>
              </a:rPr>
              <a:t>layout gives </a:t>
            </a:r>
            <a:r>
              <a:rPr b="0" lang="en-US" sz="3200" spc="-1" strike="noStrike">
                <a:solidFill>
                  <a:srgbClr val="000000"/>
                </a:solidFill>
                <a:latin typeface="Times New Roman"/>
              </a:rPr>
              <a:t>the respondent the ability to scroll dow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 butt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bar </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4 Common Question Displays </a:t>
            </a:r>
            <a:br>
              <a:rPr sz="4400"/>
            </a:br>
            <a:r>
              <a:rPr b="0" lang="en-US" sz="4400" spc="-1" strike="noStrike">
                <a:solidFill>
                  <a:srgbClr val="0066ff"/>
                </a:solidFill>
                <a:latin typeface="Times New Roman"/>
              </a:rPr>
              <a:t>on a Computer Screen </a:t>
            </a:r>
            <a:endParaRPr b="0" lang="en-US" sz="4400" spc="-1" strike="noStrike">
              <a:solidFill>
                <a:srgbClr val="0066ff"/>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butt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p-down bo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box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ended box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36360"/>
            <a:ext cx="9144000" cy="674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762120" y="685800"/>
            <a:ext cx="761976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oftware that Makes Questionnaires Interactive </a:t>
            </a:r>
            <a:endParaRPr b="0" lang="en-US" sz="4400" spc="-1" strike="noStrike">
              <a:solidFill>
                <a:srgbClr val="0066ff"/>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lean skip and branching logi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 skip logic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piping softwa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 trapping - forced answering softwa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help des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WebSurveyor</a:t>
            </a:r>
            <a:endParaRPr b="0" lang="en-US" sz="44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8915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362320"/>
            <a:ext cx="7772400" cy="2590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A QUESTIONNAIRE</a:t>
            </a:r>
            <a:br>
              <a:rPr sz="4400"/>
            </a:br>
            <a:r>
              <a:rPr b="0" lang="en-US" sz="4400" spc="-1" strike="noStrike">
                <a:solidFill>
                  <a:srgbClr val="0066ff"/>
                </a:solidFill>
                <a:latin typeface="Times New Roman"/>
              </a:rPr>
              <a:t> IS ONLY AS GOOD </a:t>
            </a:r>
            <a:br>
              <a:rPr sz="4400"/>
            </a:br>
            <a:r>
              <a:rPr b="0" lang="en-US" sz="4400" spc="-1" strike="noStrike">
                <a:solidFill>
                  <a:srgbClr val="0066ff"/>
                </a:solidFill>
                <a:latin typeface="Times New Roman"/>
              </a:rPr>
              <a:t>AS THE QUESTIONS </a:t>
            </a:r>
            <a:br>
              <a:rPr sz="4400"/>
            </a:br>
            <a:r>
              <a:rPr b="0" lang="en-US" sz="4400" spc="-1" strike="noStrike">
                <a:solidFill>
                  <a:srgbClr val="0066ff"/>
                </a:solidFill>
                <a:latin typeface="Times New Roman"/>
              </a:rPr>
              <a:t>IT ASKS</a:t>
            </a:r>
            <a:endParaRPr b="0" lang="en-US" sz="44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A Good Questionnaire Appears</a:t>
            </a:r>
            <a:endParaRPr b="0" lang="en-US" sz="4400" spc="-1" strike="noStrike">
              <a:solidFill>
                <a:srgbClr val="0066ff"/>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easy to compose as a good po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it is usually the result of long, painstaking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685800" y="380880"/>
            <a:ext cx="184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The Major Decisions in Questionnaire Design</a:t>
            </a:r>
            <a:endParaRPr b="0" lang="en-US" sz="4400" spc="-1" strike="noStrike">
              <a:solidFill>
                <a:srgbClr val="0066ff"/>
              </a:solidFill>
              <a:latin typeface="Times New Roman"/>
            </a:endParaRPr>
          </a:p>
        </p:txBody>
      </p:sp>
      <p:sp>
        <p:nvSpPr>
          <p:cNvPr id="5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hat should be asked?</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How should each question be phrased?</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n what sequence should the questions be arranged?</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What questionnaire layout will best serve the research objectiv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How should the questionnaire be pretested?  Does the questionnaire need to be revi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What Should Be Asked?</a:t>
            </a:r>
            <a:endParaRPr b="0" lang="en-US" sz="4400" spc="-1" strike="noStrike">
              <a:solidFill>
                <a:srgbClr val="0066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relev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accur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Phrasing Questions</a:t>
            </a:r>
            <a:endParaRPr b="0" lang="en-US" sz="4400" spc="-1" strike="noStrike">
              <a:solidFill>
                <a:srgbClr val="0066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ended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alternative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
          <p:cNvSpPr/>
          <p:nvPr/>
        </p:nvSpPr>
        <p:spPr>
          <a:xfrm>
            <a:off x="2666520" y="1828800"/>
            <a:ext cx="4673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nstructured</a:t>
            </a:r>
            <a:endParaRPr b="0" lang="en-US" sz="2400" spc="-1" strike="noStrike">
              <a:solidFill>
                <a:srgbClr val="000000"/>
              </a:solidFill>
              <a:latin typeface="Times New Roman"/>
            </a:endParaRPr>
          </a:p>
        </p:txBody>
      </p:sp>
      <p:sp>
        <p:nvSpPr>
          <p:cNvPr id="56" name=""/>
          <p:cNvSpPr/>
          <p:nvPr/>
        </p:nvSpPr>
        <p:spPr>
          <a:xfrm>
            <a:off x="385920" y="3200400"/>
            <a:ext cx="1858320" cy="22870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isguise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guised</a:t>
            </a:r>
            <a:endParaRPr b="0" lang="en-US" sz="2400" spc="-1" strike="noStrike">
              <a:solidFill>
                <a:srgbClr val="000000"/>
              </a:solidFill>
              <a:latin typeface="Times New Roman"/>
            </a:endParaRPr>
          </a:p>
        </p:txBody>
      </p:sp>
      <p:grpSp>
        <p:nvGrpSpPr>
          <p:cNvPr id="57" name=""/>
          <p:cNvGrpSpPr/>
          <p:nvPr/>
        </p:nvGrpSpPr>
        <p:grpSpPr>
          <a:xfrm>
            <a:off x="2278440" y="2362320"/>
            <a:ext cx="5617080" cy="4113000"/>
            <a:chOff x="2278440" y="2362320"/>
            <a:chExt cx="5617080" cy="4113000"/>
          </a:xfrm>
        </p:grpSpPr>
        <p:sp>
          <p:nvSpPr>
            <p:cNvPr id="58" name=""/>
            <p:cNvSpPr/>
            <p:nvPr/>
          </p:nvSpPr>
          <p:spPr>
            <a:xfrm>
              <a:off x="2287440" y="2362320"/>
              <a:ext cx="5559480" cy="41115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105520" y="2367000"/>
              <a:ext cx="0" cy="41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92480" y="4494240"/>
              <a:ext cx="555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78440" y="2589120"/>
              <a:ext cx="2739240" cy="1158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 descriptive surv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straight-forward, structur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s</a:t>
              </a:r>
              <a:endParaRPr b="0" lang="en-US" sz="1400" spc="-1" strike="noStrike">
                <a:solidFill>
                  <a:srgbClr val="000000"/>
                </a:solidFill>
                <a:latin typeface="Times New Roman"/>
              </a:endParaRPr>
            </a:p>
          </p:txBody>
        </p:sp>
        <p:sp>
          <p:nvSpPr>
            <p:cNvPr id="62" name=""/>
            <p:cNvSpPr/>
            <p:nvPr/>
          </p:nvSpPr>
          <p:spPr>
            <a:xfrm>
              <a:off x="5098320" y="2589120"/>
              <a:ext cx="2797200" cy="1158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 with open-end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s to discover “ne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s or focus group interview</a:t>
              </a:r>
              <a:endParaRPr b="0" lang="en-US" sz="1400" spc="-1" strike="noStrike">
                <a:solidFill>
                  <a:srgbClr val="000000"/>
                </a:solidFill>
                <a:latin typeface="Times New Roman"/>
              </a:endParaRPr>
            </a:p>
          </p:txBody>
        </p:sp>
        <p:sp>
          <p:nvSpPr>
            <p:cNvPr id="63" name=""/>
            <p:cNvSpPr/>
            <p:nvPr/>
          </p:nvSpPr>
          <p:spPr>
            <a:xfrm>
              <a:off x="2279880" y="4722840"/>
              <a:ext cx="2608200" cy="1371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 interview to meas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nd A’s image vers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e brands’ images 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nd recall (unaided recall)</a:t>
              </a:r>
              <a:endParaRPr b="0" lang="en-US" sz="1400" spc="-1" strike="noStrike">
                <a:solidFill>
                  <a:srgbClr val="000000"/>
                </a:solidFill>
                <a:latin typeface="Times New Roman"/>
              </a:endParaRPr>
            </a:p>
          </p:txBody>
        </p:sp>
        <p:sp>
          <p:nvSpPr>
            <p:cNvPr id="64" name=""/>
            <p:cNvSpPr/>
            <p:nvPr/>
          </p:nvSpPr>
          <p:spPr>
            <a:xfrm>
              <a:off x="5173560" y="4722840"/>
              <a:ext cx="264024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ion techniques u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for exploratory research</a:t>
              </a:r>
              <a:endParaRPr b="0" lang="en-US" sz="1400" spc="-1" strike="noStrike">
                <a:solidFill>
                  <a:srgbClr val="000000"/>
                </a:solidFill>
                <a:latin typeface="Times New Roman"/>
              </a:endParaRPr>
            </a:p>
          </p:txBody>
        </p:sp>
      </p:grpSp>
      <p:sp>
        <p:nvSpPr>
          <p:cNvPr id="65" name=""/>
          <p:cNvSpPr/>
          <p:nvPr/>
        </p:nvSpPr>
        <p:spPr>
          <a:xfrm>
            <a:off x="0" y="533520"/>
            <a:ext cx="9144000" cy="1006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Times New Roman"/>
              </a:rPr>
              <a:t>Classifying Survey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Times New Roman"/>
              </a:rPr>
              <a:t>by Degree of Structure and Degree of Disguis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495680" y="3276720"/>
            <a:ext cx="3861000" cy="3058920"/>
          </a:xfrm>
          <a:prstGeom prst="rect">
            <a:avLst/>
          </a:prstGeom>
          <a:ln w="0">
            <a:noFill/>
          </a:ln>
        </p:spPr>
      </p:pic>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Developing a Questionnaire</a:t>
            </a:r>
            <a:endParaRPr b="0" lang="en-US" sz="4400" spc="-1" strike="noStrike">
              <a:solidFill>
                <a:srgbClr val="0066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hard and fast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guidel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1:24:26Z</dcterms:created>
  <dc:creator>zikmund</dc:creator>
  <dc:description/>
  <dc:language>en-US</dc:language>
  <cp:lastModifiedBy>zikmund</cp:lastModifiedBy>
  <dcterms:modified xsi:type="dcterms:W3CDTF">2002-01-24T15:37:46Z</dcterms:modified>
  <cp:revision>10</cp:revision>
  <dc:subject>Chapter 15</dc:subject>
  <dc:title>Business Research Methods  William G. Zikmund </dc:title>
</cp:coreProperties>
</file>