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E6D1-268E-4321-962C-F27D81EF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768-6905-4C04-B45E-C42032F8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44A-D5EE-474A-BFC7-49161A84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57F9-DEF4-4EB4-B802-D6225C39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436-578B-44F1-A5D1-7C1EC03E9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CD66-56F8-49F1-AA5A-F7ACD67E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7C9-8E86-4BEB-BB5C-53C1EC089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8EA3-40E0-435F-8813-9845B942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7012-D6C6-4A70-B624-281D7CEA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1B5-540C-4537-876B-16B9EE7C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E186-8EDF-4BF5-BF15-945ED1F04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FB33-6981-46A6-A28A-38F25FF0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CF0-6EB6-4B37-8F7B-9D6C6A7B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976-1755-4FC1-95A8-E79C555C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0459-72DC-4FAE-AA48-0F53F7003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E68-E09F-48D3-B2B7-4702D525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E3B-57E0-42F4-BEBC-FBAD61DA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19B-DCAD-43EC-915F-31F32915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202-C26A-473B-9897-D48C3DAA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AEF8-06E7-46D6-9576-E41D98FC1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7EC-B3AC-4133-9981-D9C3EBF77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4DF-B2E2-4252-B70B-16929D02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94E5-8D32-468B-B0D3-D955B50D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4A0-D546-4561-B7D8-18B86B21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296C-B0ED-40CC-A2C5-29B54F362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31F6-F86F-4A99-9AE9-2EB64FE3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62F-60AB-41FA-AB94-86F1A40F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E5C1-CC18-4559-BC05-B0D2A8634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927A-0B27-4208-BFC8-3124DE82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D54-CD22-4569-B73F-73A4CD36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42A-FF2F-4BEB-BFC0-151C8A4E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17F-A143-4234-87E4-DCEBDDD8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26D3-D21F-4531-8B6B-CD3F3E22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AEE-56B1-4772-9AF5-14E87AE5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54EB-D828-41D9-A272-B97BD1A0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857-91E7-4FA9-9EA8-66E891A4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F2B1-AA03-4F54-BC30-BB7A908E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007E-209C-44D6-8C82-619C02EB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9EC-ED5D-4714-A38B-65BB55EA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853-6059-4626-A53B-66A089F6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B40-5E9E-4480-A856-10555C92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9BF0-C99C-4B05-BD95-56F68100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3AD-CCCC-4C0E-A412-AED2BAB1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C29-A6DE-4E62-BF4E-615F2252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80B4-534A-4467-A963-9C9D3E17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77A-4B64-4B86-8D3C-62EEB93E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417-B964-4DDF-AF98-ED3F18898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0BD6-AB36-475A-B617-CAD1EE86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7F8-D31E-4734-B1BC-F4E7FE6A8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D5C1-0005-434C-9168-0AF29795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Product Adoption Life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of customers who will end up adopting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OVATORS (2.5%):  People who are the first to adopt a product.  They are trend-setting, risk-taking, and are not typical consumers.  Example:  See a movie first weekend it’s out or in a p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ADOPTERS (13.5%):  People who are among the first but not as risk-taking.  They adopt ideas early but with consideration, and they enjoy roles as opinion leaders.  They spread the word about the product.  Example:  See a movie the first week of its re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AJORITY (34%):  Deliberate customers; adopt earlier than most customers but are not leaders.  Example:  See a movie after a few weeks, after reading all the reviews and getting recommendations from early ado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MAJORITY (34%):  Skeptical customers, will only adopt an idea if the majority of people have tried it.  Example:  See a movie after it has been nominated for an Os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ARDS (16%):  Tradition-bound, suspicious of change; will adopt an idea only after it has been around long enough.  Example:  See a movie after it has come out on 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B528-7C39-4B41-9AF8-FDD25757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9C79-C2D7-4AC0-91C3-0AFEC0FB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2BE5-5DD6-4B1F-9802-1731ECD5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08A3-F15D-4220-B70E-05B1E2C8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C00-9CC1-4935-8CD1-BA290737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307-C17C-4274-B548-63B2F3A2B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60F2-0FCA-47D1-B53D-F3E296E6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3B7F-FA77-4E4F-A1C6-D88130E18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EBB-970F-4BF6-A5ED-03128CFD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9BEA-94BE-48B1-9F78-151C97F0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ED4C-C685-4840-800E-8E20ABCD8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134-9EF9-46FA-BDFD-F08559EA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6F6-468F-4ADF-8A06-55A2786AF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B1C-406A-4141-9DF5-86EE8F85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BA4D-31D6-41D9-833E-501F41A1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EE4-81C9-4714-973F-E150C690E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B01-224B-47FD-B857-1B5F9B17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7754-68EC-42B9-B256-A6911D04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F609-4591-4FE8-A730-4BC74336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A0F-BD93-4551-9B8A-DA3B3915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27F-BE3D-43B5-832F-97699B24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7B9-182E-4181-A570-E403BB7F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C83-D708-4B1E-ACD1-CB95C754A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825-84F4-4990-A433-17C0F787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7F5-E41C-4A4A-A729-0254ECBB5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1BE-7BDE-447C-8BD3-BA9FB28B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93B4-CB3B-4D38-92E3-783BE239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872-FEEB-4642-8266-F32302D40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2ACD-A200-4404-9680-3476AB617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5D3-967B-4340-832D-0A59912D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17E4-70DA-4F24-AC5C-EC7FDCD70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74E-8B94-49D3-9D9F-C5073063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9C9B-C4DC-4B6D-85F0-4EB3CA19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2ED-EB86-4017-972C-69080061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DDC-2B57-4592-B1C6-0C59D11E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0F1-9BB5-4471-A6E9-CAC43EDCD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A236-DC53-4952-9D0F-A982E7C79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1F51-F26A-412A-993A-BCDE318A8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FA8-BC9A-432E-9D39-E845286A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3825-32C6-4A46-93DD-EDFDD993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3956-B060-41A4-80D4-51793A432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3492-C71C-4756-9669-BC56B157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201A-885E-481E-95E5-FEF99DE3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F82-6813-4D0A-B2CC-5C9AB98D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985-252D-43A6-A396-C7B03DCD5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1C0-F646-4F65-9534-E0D8538E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393F-400C-42AB-9015-1477B06E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8BC-A6F2-49E4-8AEF-37845F39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B29-282C-4972-929D-98206E9AC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E7F-8895-4FDC-ACDA-2314367A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2CC-1701-400F-B3F7-13A7FEB7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5F89-B8C5-4727-94CE-5812CAEB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3042-BD6C-45C3-A195-B5CC4963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CD4-5C1B-4556-8D9A-A5FDC0B9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012-C39A-4379-9CB7-3EF0F32E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AF5-D35D-4A8A-A36A-C5FC62CF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8F3-2E8F-418E-8143-EAE473EF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48F-6DFC-48D6-A3CE-5DAC09D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F7F-E18A-44DF-AC77-CA697798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B8B-73B8-4C38-BC76-CE55AB5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508-5F01-4BC8-BEF2-C25852D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2C7-BE3D-45DC-8151-E17D6A1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343-4F36-4EAC-B2AF-39FD4FC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58E-5DC7-481B-8B8F-0E42D5F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37B-7AEC-4713-8581-D17668F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7D6-1517-4BB9-B251-1D389A3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119-360F-4742-A686-EF08D557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4E3F-C921-409F-825A-93114A3B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7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tion of Sample Siz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Measures of Central Tendency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rithmetic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µ, Population;      ,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idpoint of th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value that occurs mos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733920" y="2743200"/>
                <a:ext cx="3315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48587611-09A9-41FB-994F-DF58ED0F6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23440" y="457200"/>
            <a:ext cx="80773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Determining Sample Size for Proportions</a:t>
            </a:r>
            <a:endParaRPr b="0" lang="en-US" sz="28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1"/>
          <a:stretch/>
        </p:blipFill>
        <p:spPr>
          <a:xfrm>
            <a:off x="1119240" y="1417680"/>
            <a:ext cx="5514840" cy="7430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5" descr=""/>
          <p:cNvPicPr/>
          <p:nvPr/>
        </p:nvPicPr>
        <p:blipFill>
          <a:blip r:embed="rId2"/>
          <a:stretch/>
        </p:blipFill>
        <p:spPr>
          <a:xfrm>
            <a:off x="2819520" y="2332080"/>
            <a:ext cx="3504960" cy="8762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" descr=""/>
          <p:cNvPicPr/>
          <p:nvPr/>
        </p:nvPicPr>
        <p:blipFill>
          <a:blip r:embed="rId3"/>
          <a:stretch/>
        </p:blipFill>
        <p:spPr>
          <a:xfrm>
            <a:off x="549360" y="3102120"/>
            <a:ext cx="731520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44FC1F8D-76D2-4BFC-BD41-DE3330C17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23440" y="471600"/>
            <a:ext cx="80773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Determining Sample Size for Proportions (cont’d)</a:t>
            </a:r>
            <a:endParaRPr b="0" lang="en-US" sz="28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3274920" y="1417680"/>
            <a:ext cx="2514600" cy="1289160"/>
          </a:xfrm>
          <a:prstGeom prst="rect">
            <a:avLst/>
          </a:prstGeom>
          <a:ln w="0">
            <a:noFill/>
          </a:ln>
        </p:spPr>
      </p:pic>
      <p:grpSp>
        <p:nvGrpSpPr>
          <p:cNvPr id="711" name="Group 11"/>
          <p:cNvGrpSpPr/>
          <p:nvPr/>
        </p:nvGrpSpPr>
        <p:grpSpPr>
          <a:xfrm>
            <a:off x="892080" y="2749680"/>
            <a:ext cx="7321680" cy="3240000"/>
            <a:chOff x="892080" y="2749680"/>
            <a:chExt cx="7321680" cy="3240000"/>
          </a:xfrm>
        </p:grpSpPr>
        <p:pic>
          <p:nvPicPr>
            <p:cNvPr id="712" name="Picture 6" descr=""/>
            <p:cNvPicPr/>
            <p:nvPr/>
          </p:nvPicPr>
          <p:blipFill>
            <a:blip r:embed="rId2"/>
            <a:stretch/>
          </p:blipFill>
          <p:spPr>
            <a:xfrm>
              <a:off x="892080" y="2749680"/>
              <a:ext cx="7321680" cy="25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7" descr=""/>
            <p:cNvPicPr/>
            <p:nvPr/>
          </p:nvPicPr>
          <p:blipFill>
            <a:blip r:embed="rId3"/>
            <a:stretch/>
          </p:blipFill>
          <p:spPr>
            <a:xfrm>
              <a:off x="2262240" y="5284800"/>
              <a:ext cx="32241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9" descr=""/>
            <p:cNvPicPr/>
            <p:nvPr/>
          </p:nvPicPr>
          <p:blipFill>
            <a:blip r:embed="rId4"/>
            <a:stretch/>
          </p:blipFill>
          <p:spPr>
            <a:xfrm>
              <a:off x="5479920" y="5353200"/>
              <a:ext cx="212436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0" descr=""/>
            <p:cNvPicPr/>
            <p:nvPr/>
          </p:nvPicPr>
          <p:blipFill>
            <a:blip r:embed="rId5"/>
            <a:stretch/>
          </p:blipFill>
          <p:spPr>
            <a:xfrm>
              <a:off x="2300400" y="5664240"/>
              <a:ext cx="2060640" cy="32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A4D33E5F-0B80-4146-A0FE-FDB14CAB6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1574640" y="2233440"/>
            <a:ext cx="4934160" cy="3663000"/>
            <a:chOff x="1574640" y="2233440"/>
            <a:chExt cx="4934160" cy="3663000"/>
          </a:xfrm>
        </p:grpSpPr>
        <p:grpSp>
          <p:nvGrpSpPr>
            <p:cNvPr id="719" name="Group 4"/>
            <p:cNvGrpSpPr/>
            <p:nvPr/>
          </p:nvGrpSpPr>
          <p:grpSpPr>
            <a:xfrm>
              <a:off x="3932640" y="5506200"/>
              <a:ext cx="979920" cy="390240"/>
              <a:chOff x="3932640" y="5506200"/>
              <a:chExt cx="979920" cy="390240"/>
            </a:xfrm>
          </p:grpSpPr>
          <p:sp>
            <p:nvSpPr>
              <p:cNvPr id="720" name="Rectangle 5"/>
              <p:cNvSpPr/>
              <p:nvPr/>
            </p:nvSpPr>
            <p:spPr>
              <a:xfrm>
                <a:off x="4491360" y="5560920"/>
                <a:ext cx="421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75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6"/>
              <p:cNvSpPr/>
              <p:nvPr/>
            </p:nvSpPr>
            <p:spPr>
              <a:xfrm>
                <a:off x="3932640" y="550620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7"/>
            <p:cNvGrpSpPr/>
            <p:nvPr/>
          </p:nvGrpSpPr>
          <p:grpSpPr>
            <a:xfrm>
              <a:off x="3932640" y="4487040"/>
              <a:ext cx="1872720" cy="882000"/>
              <a:chOff x="3932640" y="4487040"/>
              <a:chExt cx="1872720" cy="882000"/>
            </a:xfrm>
          </p:grpSpPr>
          <p:sp>
            <p:nvSpPr>
              <p:cNvPr id="723" name="Line 8"/>
              <p:cNvSpPr/>
              <p:nvPr/>
            </p:nvSpPr>
            <p:spPr>
              <a:xfrm>
                <a:off x="4507560" y="5033520"/>
                <a:ext cx="1297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9"/>
              <p:cNvSpPr/>
              <p:nvPr/>
            </p:nvSpPr>
            <p:spPr>
              <a:xfrm>
                <a:off x="4774320" y="5033520"/>
                <a:ext cx="842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00122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10"/>
              <p:cNvSpPr/>
              <p:nvPr/>
            </p:nvSpPr>
            <p:spPr>
              <a:xfrm>
                <a:off x="4488120" y="5033520"/>
                <a:ext cx="70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11"/>
              <p:cNvSpPr/>
              <p:nvPr/>
            </p:nvSpPr>
            <p:spPr>
              <a:xfrm>
                <a:off x="4972320" y="4487040"/>
                <a:ext cx="421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92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2"/>
              <p:cNvSpPr/>
              <p:nvPr/>
            </p:nvSpPr>
            <p:spPr>
              <a:xfrm>
                <a:off x="4786560" y="4487040"/>
                <a:ext cx="70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13"/>
              <p:cNvSpPr/>
              <p:nvPr/>
            </p:nvSpPr>
            <p:spPr>
              <a:xfrm>
                <a:off x="3932640" y="469548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"/>
            <p:cNvGrpSpPr/>
            <p:nvPr/>
          </p:nvGrpSpPr>
          <p:grpSpPr>
            <a:xfrm>
              <a:off x="3932640" y="3432600"/>
              <a:ext cx="2554920" cy="882000"/>
              <a:chOff x="3932640" y="3432600"/>
              <a:chExt cx="2554920" cy="882000"/>
            </a:xfrm>
          </p:grpSpPr>
          <p:sp>
            <p:nvSpPr>
              <p:cNvPr id="730" name="Line 15"/>
              <p:cNvSpPr/>
              <p:nvPr/>
            </p:nvSpPr>
            <p:spPr>
              <a:xfrm>
                <a:off x="4341240" y="3930840"/>
                <a:ext cx="2085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16"/>
              <p:cNvSpPr/>
              <p:nvPr/>
            </p:nvSpPr>
            <p:spPr>
              <a:xfrm>
                <a:off x="5064120" y="3979080"/>
                <a:ext cx="842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00122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17"/>
              <p:cNvSpPr/>
              <p:nvPr/>
            </p:nvSpPr>
            <p:spPr>
              <a:xfrm>
                <a:off x="6393960" y="343260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8"/>
              <p:cNvSpPr/>
              <p:nvPr/>
            </p:nvSpPr>
            <p:spPr>
              <a:xfrm>
                <a:off x="6047280" y="343260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19"/>
              <p:cNvSpPr/>
              <p:nvPr/>
            </p:nvSpPr>
            <p:spPr>
              <a:xfrm>
                <a:off x="5681520" y="3432600"/>
                <a:ext cx="256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0"/>
              <p:cNvSpPr/>
              <p:nvPr/>
            </p:nvSpPr>
            <p:spPr>
              <a:xfrm>
                <a:off x="4973760" y="3432600"/>
                <a:ext cx="561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84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21"/>
              <p:cNvSpPr/>
              <p:nvPr/>
            </p:nvSpPr>
            <p:spPr>
              <a:xfrm>
                <a:off x="4757400" y="3432600"/>
                <a:ext cx="70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22"/>
              <p:cNvSpPr/>
              <p:nvPr/>
            </p:nvSpPr>
            <p:spPr>
              <a:xfrm>
                <a:off x="4575960" y="34326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23"/>
              <p:cNvSpPr/>
              <p:nvPr/>
            </p:nvSpPr>
            <p:spPr>
              <a:xfrm>
                <a:off x="4438800" y="343260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24"/>
              <p:cNvSpPr/>
              <p:nvPr/>
            </p:nvSpPr>
            <p:spPr>
              <a:xfrm>
                <a:off x="3932640" y="364104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25"/>
            <p:cNvGrpSpPr/>
            <p:nvPr/>
          </p:nvGrpSpPr>
          <p:grpSpPr>
            <a:xfrm>
              <a:off x="1574640" y="2233440"/>
              <a:ext cx="4934160" cy="961200"/>
              <a:chOff x="1574640" y="2233440"/>
              <a:chExt cx="4934160" cy="961200"/>
            </a:xfrm>
          </p:grpSpPr>
          <p:sp>
            <p:nvSpPr>
              <p:cNvPr id="741" name="Line 26"/>
              <p:cNvSpPr/>
              <p:nvPr/>
            </p:nvSpPr>
            <p:spPr>
              <a:xfrm flipH="1">
                <a:off x="4410360" y="2819880"/>
                <a:ext cx="2067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27"/>
              <p:cNvSpPr/>
              <p:nvPr/>
            </p:nvSpPr>
            <p:spPr>
              <a:xfrm flipH="1">
                <a:off x="5492520" y="281988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28"/>
              <p:cNvSpPr/>
              <p:nvPr/>
            </p:nvSpPr>
            <p:spPr>
              <a:xfrm flipH="1">
                <a:off x="4880520" y="2819880"/>
                <a:ext cx="421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03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29"/>
              <p:cNvSpPr/>
              <p:nvPr/>
            </p:nvSpPr>
            <p:spPr>
              <a:xfrm flipH="1">
                <a:off x="4497840" y="2819880"/>
                <a:ext cx="234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 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30"/>
              <p:cNvSpPr/>
              <p:nvPr/>
            </p:nvSpPr>
            <p:spPr>
              <a:xfrm flipH="1">
                <a:off x="6415200" y="230796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31"/>
              <p:cNvSpPr/>
              <p:nvPr/>
            </p:nvSpPr>
            <p:spPr>
              <a:xfrm flipH="1">
                <a:off x="6148800" y="23079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32"/>
              <p:cNvSpPr/>
              <p:nvPr/>
            </p:nvSpPr>
            <p:spPr>
              <a:xfrm flipH="1">
                <a:off x="5807520" y="2292480"/>
                <a:ext cx="256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33"/>
              <p:cNvSpPr/>
              <p:nvPr/>
            </p:nvSpPr>
            <p:spPr>
              <a:xfrm flipH="1">
                <a:off x="5605920" y="23079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34"/>
              <p:cNvSpPr/>
              <p:nvPr/>
            </p:nvSpPr>
            <p:spPr>
              <a:xfrm flipH="1">
                <a:off x="5362200" y="2307960"/>
                <a:ext cx="163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5"/>
              <p:cNvSpPr/>
              <p:nvPr/>
            </p:nvSpPr>
            <p:spPr>
              <a:xfrm flipH="1">
                <a:off x="5187960" y="230796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6"/>
              <p:cNvSpPr/>
              <p:nvPr/>
            </p:nvSpPr>
            <p:spPr>
              <a:xfrm flipH="1">
                <a:off x="4754880" y="229248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37"/>
              <p:cNvSpPr/>
              <p:nvPr/>
            </p:nvSpPr>
            <p:spPr>
              <a:xfrm flipH="1">
                <a:off x="4327560" y="2307960"/>
                <a:ext cx="351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Rectangle 38"/>
              <p:cNvSpPr/>
              <p:nvPr/>
            </p:nvSpPr>
            <p:spPr>
              <a:xfrm flipH="1">
                <a:off x="4320720" y="229248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39"/>
              <p:cNvSpPr/>
              <p:nvPr/>
            </p:nvSpPr>
            <p:spPr>
              <a:xfrm flipH="1">
                <a:off x="3726000" y="25520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0"/>
              <p:cNvSpPr/>
              <p:nvPr/>
            </p:nvSpPr>
            <p:spPr>
              <a:xfrm>
                <a:off x="2245680" y="28591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41"/>
              <p:cNvSpPr/>
              <p:nvPr/>
            </p:nvSpPr>
            <p:spPr>
              <a:xfrm>
                <a:off x="2127240" y="2859120"/>
                <a:ext cx="70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2"/>
              <p:cNvSpPr/>
              <p:nvPr/>
            </p:nvSpPr>
            <p:spPr>
              <a:xfrm>
                <a:off x="1582200" y="28591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3"/>
              <p:cNvSpPr/>
              <p:nvPr/>
            </p:nvSpPr>
            <p:spPr>
              <a:xfrm>
                <a:off x="2245680" y="22730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4"/>
              <p:cNvSpPr/>
              <p:nvPr/>
            </p:nvSpPr>
            <p:spPr>
              <a:xfrm>
                <a:off x="2127240" y="2273040"/>
                <a:ext cx="70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45"/>
              <p:cNvSpPr/>
              <p:nvPr/>
            </p:nvSpPr>
            <p:spPr>
              <a:xfrm>
                <a:off x="1574640" y="22730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46"/>
              <p:cNvSpPr/>
              <p:nvPr/>
            </p:nvSpPr>
            <p:spPr>
              <a:xfrm flipH="1">
                <a:off x="5588280" y="28198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47"/>
              <p:cNvSpPr/>
              <p:nvPr/>
            </p:nvSpPr>
            <p:spPr>
              <a:xfrm flipH="1">
                <a:off x="5272920" y="22816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48"/>
              <p:cNvSpPr/>
              <p:nvPr/>
            </p:nvSpPr>
            <p:spPr>
              <a:xfrm flipH="1">
                <a:off x="4007520" y="251208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49"/>
              <p:cNvSpPr/>
              <p:nvPr/>
            </p:nvSpPr>
            <p:spPr>
              <a:xfrm>
                <a:off x="1859400" y="281988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Rectangle 50"/>
              <p:cNvSpPr/>
              <p:nvPr/>
            </p:nvSpPr>
            <p:spPr>
              <a:xfrm>
                <a:off x="1859400" y="223344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3440" y="456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alculating Example Sample Size at the 95 Percent Confidence Level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86DDF1CD-1952-45C9-9CF8-69D32276E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50440" y="152280"/>
            <a:ext cx="61246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HIBIT 17.20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ed Tables for Determining Sample Size When the Characteristic of Interest Is a Proportion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571680" y="685800"/>
            <a:ext cx="8001000" cy="41338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5"/>
          <p:cNvSpPr/>
          <p:nvPr/>
        </p:nvSpPr>
        <p:spPr>
          <a:xfrm>
            <a:off x="380880" y="4724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se cases, more than 50 percent of the population is required in the sample. Since the normal approximation of the hypergeometric distribution is a poor approximation in such instances, no sample value is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75360" y="6319800"/>
            <a:ext cx="691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Nan Lin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Foundations of Social Research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New York: McGraw-Hill, 1976), p. 447. Copyright © 1976 by Nan Lin. Us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A0405D1-3308-43D3-BBE6-280D23877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50440" y="181080"/>
            <a:ext cx="61246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HIBIT 17.20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ed Tables for Determining Sample Size When the Characteristic of Interest Is a Proportion (cont’d)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1"/>
          <a:stretch/>
        </p:blipFill>
        <p:spPr>
          <a:xfrm>
            <a:off x="576360" y="838080"/>
            <a:ext cx="7991280" cy="426744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6"/>
          <p:cNvSpPr/>
          <p:nvPr/>
        </p:nvSpPr>
        <p:spPr>
          <a:xfrm>
            <a:off x="771480" y="4952880"/>
            <a:ext cx="76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se cases, more than 50 percent of the population is required in the sample. Since the normal approximation of the hypergeometric distribution is a poor approximation in such instances, no sample value is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675360" y="6319800"/>
            <a:ext cx="691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Nan Lin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Foundations of Social Research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New York: McGraw-Hill, 1976), p. 447. Copyright © 1976 by Nan Lin. Us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C4DE40B3-9645-4B7E-A010-EAF1151A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50440" y="512640"/>
            <a:ext cx="80247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HIBIT 17.21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ance for Random Sampling Error (Plus and Minus Percentage Points) at 95 Percent Confidence Level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779" name="Line 3"/>
          <p:cNvSpPr/>
          <p:nvPr/>
        </p:nvSpPr>
        <p:spPr>
          <a:xfrm>
            <a:off x="639720" y="105084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4" descr=""/>
          <p:cNvPicPr/>
          <p:nvPr/>
        </p:nvPicPr>
        <p:blipFill>
          <a:blip r:embed="rId1"/>
          <a:stretch/>
        </p:blipFill>
        <p:spPr>
          <a:xfrm>
            <a:off x="639720" y="1258920"/>
            <a:ext cx="7858080" cy="30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FA204B9-E3AD-4083-B3F8-2F448CAEE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23440" y="456840"/>
            <a:ext cx="8077320" cy="5922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Terms and Concept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t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ag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norma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tion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of the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-limit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interval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opulation Mea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027"/>
              <p:cNvSpPr txBox="1"/>
              <p:nvPr/>
            </p:nvSpPr>
            <p:spPr>
              <a:xfrm>
                <a:off x="3422520" y="2577960"/>
                <a:ext cx="23367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ΣX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Object 1026"/>
              <p:cNvSpPr txBox="1"/>
              <p:nvPr/>
            </p:nvSpPr>
            <p:spPr>
              <a:xfrm>
                <a:off x="2722680" y="2362320"/>
                <a:ext cx="33192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X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Mean 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26"/>
          <p:cNvSpPr/>
          <p:nvPr/>
        </p:nvSpPr>
        <p:spPr>
          <a:xfrm>
            <a:off x="401760" y="1101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27"/>
          <p:cNvSpPr/>
          <p:nvPr/>
        </p:nvSpPr>
        <p:spPr>
          <a:xfrm>
            <a:off x="1247760" y="2262240"/>
            <a:ext cx="634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per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s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28"/>
          <p:cNvSpPr/>
          <p:nvPr/>
        </p:nvSpPr>
        <p:spPr>
          <a:xfrm>
            <a:off x="1328760" y="294804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29"/>
          <p:cNvSpPr/>
          <p:nvPr/>
        </p:nvSpPr>
        <p:spPr>
          <a:xfrm>
            <a:off x="1323720" y="3100320"/>
            <a:ext cx="6011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ant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Number of Sales Calls Per Day by Salesperson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26"/>
          <p:cNvSpPr/>
          <p:nvPr/>
        </p:nvSpPr>
        <p:spPr>
          <a:xfrm>
            <a:off x="912960" y="111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27"/>
          <p:cNvSpPr/>
          <p:nvPr/>
        </p:nvSpPr>
        <p:spPr>
          <a:xfrm>
            <a:off x="1490400" y="1839960"/>
            <a:ext cx="518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28"/>
          <p:cNvSpPr/>
          <p:nvPr/>
        </p:nvSpPr>
        <p:spPr>
          <a:xfrm>
            <a:off x="1719360" y="2241720"/>
            <a:ext cx="4327560" cy="84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6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29"/>
          <p:cNvSpPr/>
          <p:nvPr/>
        </p:nvSpPr>
        <p:spPr>
          <a:xfrm>
            <a:off x="1663560" y="2236680"/>
            <a:ext cx="4948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les for Products A and B, </a:t>
            </a:r>
            <a:br>
              <a:rPr sz="4400"/>
            </a:b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Both Average 200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Measures of Dispers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Measures of Dispersion </a:t>
            </a:r>
            <a:br>
              <a:rPr sz="4400"/>
            </a:b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or Spread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absolute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480" y="35208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The Range</a:t>
            </a:r>
            <a:br>
              <a:rPr sz="4400"/>
            </a:b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 as a Measure of Spread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2160720"/>
            <a:ext cx="8528040" cy="38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nge i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e smallest and the largest value in th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= largest value – smalles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39520" y="5835600"/>
            <a:ext cx="266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Deviation Score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erences between each observation value and the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8"/>
              <p:cNvSpPr txBox="1"/>
              <p:nvPr/>
            </p:nvSpPr>
            <p:spPr>
              <a:xfrm>
                <a:off x="3371760" y="3124080"/>
                <a:ext cx="243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/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26"/>
          <p:cNvSpPr/>
          <p:nvPr/>
        </p:nvSpPr>
        <p:spPr>
          <a:xfrm>
            <a:off x="158760" y="809640"/>
            <a:ext cx="8717040" cy="26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1131840" y="961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8"/>
          <p:cNvSpPr/>
          <p:nvPr/>
        </p:nvSpPr>
        <p:spPr>
          <a:xfrm>
            <a:off x="1219320" y="1452600"/>
            <a:ext cx="0" cy="433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29"/>
          <p:cNvSpPr/>
          <p:nvPr/>
        </p:nvSpPr>
        <p:spPr>
          <a:xfrm>
            <a:off x="1224000" y="5791320"/>
            <a:ext cx="753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0"/>
          <p:cNvSpPr/>
          <p:nvPr/>
        </p:nvSpPr>
        <p:spPr>
          <a:xfrm>
            <a:off x="1224000" y="22096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1"/>
          <p:cNvSpPr/>
          <p:nvPr/>
        </p:nvSpPr>
        <p:spPr>
          <a:xfrm>
            <a:off x="1224000" y="281952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2"/>
          <p:cNvSpPr/>
          <p:nvPr/>
        </p:nvSpPr>
        <p:spPr>
          <a:xfrm>
            <a:off x="1224000" y="35812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33"/>
          <p:cNvSpPr/>
          <p:nvPr/>
        </p:nvSpPr>
        <p:spPr>
          <a:xfrm>
            <a:off x="1224000" y="434340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34"/>
          <p:cNvSpPr/>
          <p:nvPr/>
        </p:nvSpPr>
        <p:spPr>
          <a:xfrm>
            <a:off x="1224000" y="510552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35"/>
          <p:cNvSpPr/>
          <p:nvPr/>
        </p:nvSpPr>
        <p:spPr>
          <a:xfrm>
            <a:off x="236232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36"/>
          <p:cNvSpPr/>
          <p:nvPr/>
        </p:nvSpPr>
        <p:spPr>
          <a:xfrm>
            <a:off x="45720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37"/>
          <p:cNvSpPr/>
          <p:nvPr/>
        </p:nvSpPr>
        <p:spPr>
          <a:xfrm>
            <a:off x="510552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38"/>
          <p:cNvSpPr/>
          <p:nvPr/>
        </p:nvSpPr>
        <p:spPr>
          <a:xfrm>
            <a:off x="563868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39"/>
          <p:cNvSpPr/>
          <p:nvPr/>
        </p:nvSpPr>
        <p:spPr>
          <a:xfrm>
            <a:off x="358128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40"/>
          <p:cNvSpPr/>
          <p:nvPr/>
        </p:nvSpPr>
        <p:spPr>
          <a:xfrm>
            <a:off x="670572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41"/>
          <p:cNvSpPr/>
          <p:nvPr/>
        </p:nvSpPr>
        <p:spPr>
          <a:xfrm>
            <a:off x="61722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42"/>
          <p:cNvSpPr/>
          <p:nvPr/>
        </p:nvSpPr>
        <p:spPr>
          <a:xfrm>
            <a:off x="41148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43"/>
          <p:cNvSpPr/>
          <p:nvPr/>
        </p:nvSpPr>
        <p:spPr>
          <a:xfrm>
            <a:off x="29718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44"/>
          <p:cNvSpPr/>
          <p:nvPr/>
        </p:nvSpPr>
        <p:spPr>
          <a:xfrm>
            <a:off x="77724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45"/>
          <p:cNvSpPr/>
          <p:nvPr/>
        </p:nvSpPr>
        <p:spPr>
          <a:xfrm>
            <a:off x="723888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046"/>
          <p:cNvSpPr/>
          <p:nvPr/>
        </p:nvSpPr>
        <p:spPr>
          <a:xfrm>
            <a:off x="5950080" y="419724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047"/>
          <p:cNvSpPr/>
          <p:nvPr/>
        </p:nvSpPr>
        <p:spPr>
          <a:xfrm>
            <a:off x="6940440" y="495936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048"/>
          <p:cNvSpPr/>
          <p:nvPr/>
        </p:nvSpPr>
        <p:spPr>
          <a:xfrm>
            <a:off x="6407280" y="495936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049"/>
          <p:cNvSpPr/>
          <p:nvPr/>
        </p:nvSpPr>
        <p:spPr>
          <a:xfrm>
            <a:off x="5950080" y="495936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050"/>
          <p:cNvSpPr/>
          <p:nvPr/>
        </p:nvSpPr>
        <p:spPr>
          <a:xfrm>
            <a:off x="5416560" y="495936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051"/>
          <p:cNvSpPr/>
          <p:nvPr/>
        </p:nvSpPr>
        <p:spPr>
          <a:xfrm>
            <a:off x="4883040" y="495936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052"/>
          <p:cNvSpPr/>
          <p:nvPr/>
        </p:nvSpPr>
        <p:spPr>
          <a:xfrm>
            <a:off x="4349880" y="495936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53"/>
          <p:cNvSpPr/>
          <p:nvPr/>
        </p:nvSpPr>
        <p:spPr>
          <a:xfrm>
            <a:off x="3816360" y="495936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54"/>
          <p:cNvSpPr/>
          <p:nvPr/>
        </p:nvSpPr>
        <p:spPr>
          <a:xfrm>
            <a:off x="2041560" y="5775480"/>
            <a:ext cx="709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70     180      190       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55"/>
          <p:cNvSpPr/>
          <p:nvPr/>
        </p:nvSpPr>
        <p:spPr>
          <a:xfrm>
            <a:off x="876312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56"/>
          <p:cNvSpPr/>
          <p:nvPr/>
        </p:nvSpPr>
        <p:spPr>
          <a:xfrm>
            <a:off x="822960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057"/>
          <p:cNvSpPr/>
          <p:nvPr/>
        </p:nvSpPr>
        <p:spPr>
          <a:xfrm>
            <a:off x="5416560" y="419724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58"/>
          <p:cNvSpPr/>
          <p:nvPr/>
        </p:nvSpPr>
        <p:spPr>
          <a:xfrm>
            <a:off x="4883040" y="419724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59"/>
          <p:cNvSpPr/>
          <p:nvPr/>
        </p:nvSpPr>
        <p:spPr>
          <a:xfrm>
            <a:off x="4349880" y="419724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60"/>
          <p:cNvSpPr/>
          <p:nvPr/>
        </p:nvSpPr>
        <p:spPr>
          <a:xfrm>
            <a:off x="6407280" y="419724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61"/>
          <p:cNvSpPr/>
          <p:nvPr/>
        </p:nvSpPr>
        <p:spPr>
          <a:xfrm>
            <a:off x="5950080" y="3435480"/>
            <a:ext cx="21564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062"/>
          <p:cNvSpPr/>
          <p:nvPr/>
        </p:nvSpPr>
        <p:spPr>
          <a:xfrm>
            <a:off x="5416560" y="343548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63"/>
          <p:cNvSpPr/>
          <p:nvPr/>
        </p:nvSpPr>
        <p:spPr>
          <a:xfrm>
            <a:off x="4883040" y="343548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064"/>
          <p:cNvSpPr/>
          <p:nvPr/>
        </p:nvSpPr>
        <p:spPr>
          <a:xfrm>
            <a:off x="5416560" y="206388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65"/>
          <p:cNvSpPr/>
          <p:nvPr/>
        </p:nvSpPr>
        <p:spPr>
          <a:xfrm>
            <a:off x="5416560" y="267336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66"/>
          <p:cNvSpPr/>
          <p:nvPr/>
        </p:nvSpPr>
        <p:spPr>
          <a:xfrm>
            <a:off x="822240" y="1965240"/>
            <a:ext cx="354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67"/>
          <p:cNvSpPr/>
          <p:nvPr/>
        </p:nvSpPr>
        <p:spPr>
          <a:xfrm>
            <a:off x="5975280" y="2367000"/>
            <a:ext cx="226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68"/>
          <p:cNvSpPr/>
          <p:nvPr/>
        </p:nvSpPr>
        <p:spPr>
          <a:xfrm>
            <a:off x="4038480" y="6095880"/>
            <a:ext cx="259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n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69"/>
          <p:cNvSpPr/>
          <p:nvPr/>
        </p:nvSpPr>
        <p:spPr>
          <a:xfrm rot="16260000">
            <a:off x="-166680" y="302724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Low Dispersion Verses High Dispers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What does Statistics Mean?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n inference about a population from a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6"/>
          <p:cNvSpPr/>
          <p:nvPr/>
        </p:nvSpPr>
        <p:spPr>
          <a:xfrm>
            <a:off x="158760" y="809640"/>
            <a:ext cx="8717040" cy="26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27"/>
          <p:cNvSpPr/>
          <p:nvPr/>
        </p:nvSpPr>
        <p:spPr>
          <a:xfrm>
            <a:off x="728640" y="1217520"/>
            <a:ext cx="0" cy="433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28"/>
          <p:cNvSpPr/>
          <p:nvPr/>
        </p:nvSpPr>
        <p:spPr>
          <a:xfrm>
            <a:off x="733320" y="5556240"/>
            <a:ext cx="753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29"/>
          <p:cNvSpPr/>
          <p:nvPr/>
        </p:nvSpPr>
        <p:spPr>
          <a:xfrm>
            <a:off x="733320" y="197496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30"/>
          <p:cNvSpPr/>
          <p:nvPr/>
        </p:nvSpPr>
        <p:spPr>
          <a:xfrm>
            <a:off x="733320" y="258444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31"/>
          <p:cNvSpPr/>
          <p:nvPr/>
        </p:nvSpPr>
        <p:spPr>
          <a:xfrm>
            <a:off x="733320" y="334656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32"/>
          <p:cNvSpPr/>
          <p:nvPr/>
        </p:nvSpPr>
        <p:spPr>
          <a:xfrm>
            <a:off x="733320" y="410832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733320" y="487044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187164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40813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36"/>
          <p:cNvSpPr/>
          <p:nvPr/>
        </p:nvSpPr>
        <p:spPr>
          <a:xfrm>
            <a:off x="461484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37"/>
          <p:cNvSpPr/>
          <p:nvPr/>
        </p:nvSpPr>
        <p:spPr>
          <a:xfrm>
            <a:off x="514836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38"/>
          <p:cNvSpPr/>
          <p:nvPr/>
        </p:nvSpPr>
        <p:spPr>
          <a:xfrm>
            <a:off x="309096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39"/>
          <p:cNvSpPr/>
          <p:nvPr/>
        </p:nvSpPr>
        <p:spPr>
          <a:xfrm>
            <a:off x="621504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40"/>
          <p:cNvSpPr/>
          <p:nvPr/>
        </p:nvSpPr>
        <p:spPr>
          <a:xfrm>
            <a:off x="56815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41"/>
          <p:cNvSpPr/>
          <p:nvPr/>
        </p:nvSpPr>
        <p:spPr>
          <a:xfrm>
            <a:off x="36241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42"/>
          <p:cNvSpPr/>
          <p:nvPr/>
        </p:nvSpPr>
        <p:spPr>
          <a:xfrm>
            <a:off x="24811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43"/>
          <p:cNvSpPr/>
          <p:nvPr/>
        </p:nvSpPr>
        <p:spPr>
          <a:xfrm>
            <a:off x="72817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44"/>
          <p:cNvSpPr/>
          <p:nvPr/>
        </p:nvSpPr>
        <p:spPr>
          <a:xfrm>
            <a:off x="674856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45"/>
          <p:cNvSpPr/>
          <p:nvPr/>
        </p:nvSpPr>
        <p:spPr>
          <a:xfrm>
            <a:off x="5992920" y="3962520"/>
            <a:ext cx="21564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6"/>
          <p:cNvSpPr/>
          <p:nvPr/>
        </p:nvSpPr>
        <p:spPr>
          <a:xfrm>
            <a:off x="7974000" y="4724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47"/>
          <p:cNvSpPr/>
          <p:nvPr/>
        </p:nvSpPr>
        <p:spPr>
          <a:xfrm>
            <a:off x="7059600" y="4724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48"/>
          <p:cNvSpPr/>
          <p:nvPr/>
        </p:nvSpPr>
        <p:spPr>
          <a:xfrm>
            <a:off x="5992920" y="472428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49"/>
          <p:cNvSpPr/>
          <p:nvPr/>
        </p:nvSpPr>
        <p:spPr>
          <a:xfrm>
            <a:off x="4925880" y="4724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50"/>
          <p:cNvSpPr/>
          <p:nvPr/>
        </p:nvSpPr>
        <p:spPr>
          <a:xfrm>
            <a:off x="3782880" y="4724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051"/>
          <p:cNvSpPr/>
          <p:nvPr/>
        </p:nvSpPr>
        <p:spPr>
          <a:xfrm>
            <a:off x="2868480" y="4724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52"/>
          <p:cNvSpPr/>
          <p:nvPr/>
        </p:nvSpPr>
        <p:spPr>
          <a:xfrm>
            <a:off x="1649520" y="472428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53"/>
          <p:cNvSpPr/>
          <p:nvPr/>
        </p:nvSpPr>
        <p:spPr>
          <a:xfrm>
            <a:off x="1550880" y="5540400"/>
            <a:ext cx="709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70     180      190       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54"/>
          <p:cNvSpPr/>
          <p:nvPr/>
        </p:nvSpPr>
        <p:spPr>
          <a:xfrm>
            <a:off x="827244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55"/>
          <p:cNvSpPr/>
          <p:nvPr/>
        </p:nvSpPr>
        <p:spPr>
          <a:xfrm>
            <a:off x="7738920" y="49514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56"/>
          <p:cNvSpPr/>
          <p:nvPr/>
        </p:nvSpPr>
        <p:spPr>
          <a:xfrm>
            <a:off x="4925880" y="396252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057"/>
          <p:cNvSpPr/>
          <p:nvPr/>
        </p:nvSpPr>
        <p:spPr>
          <a:xfrm>
            <a:off x="3782880" y="396252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058"/>
          <p:cNvSpPr/>
          <p:nvPr/>
        </p:nvSpPr>
        <p:spPr>
          <a:xfrm>
            <a:off x="2868480" y="396252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059"/>
          <p:cNvSpPr/>
          <p:nvPr/>
        </p:nvSpPr>
        <p:spPr>
          <a:xfrm>
            <a:off x="6983280" y="3962520"/>
            <a:ext cx="216000" cy="215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60"/>
          <p:cNvSpPr/>
          <p:nvPr/>
        </p:nvSpPr>
        <p:spPr>
          <a:xfrm>
            <a:off x="5992920" y="3200400"/>
            <a:ext cx="21564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61"/>
          <p:cNvSpPr/>
          <p:nvPr/>
        </p:nvSpPr>
        <p:spPr>
          <a:xfrm>
            <a:off x="4925880" y="320040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062"/>
          <p:cNvSpPr/>
          <p:nvPr/>
        </p:nvSpPr>
        <p:spPr>
          <a:xfrm>
            <a:off x="3782880" y="320040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063"/>
          <p:cNvSpPr/>
          <p:nvPr/>
        </p:nvSpPr>
        <p:spPr>
          <a:xfrm>
            <a:off x="4925880" y="182880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064"/>
          <p:cNvSpPr/>
          <p:nvPr/>
        </p:nvSpPr>
        <p:spPr>
          <a:xfrm>
            <a:off x="4925880" y="2438280"/>
            <a:ext cx="216000" cy="2160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65"/>
          <p:cNvSpPr/>
          <p:nvPr/>
        </p:nvSpPr>
        <p:spPr>
          <a:xfrm>
            <a:off x="331920" y="1730520"/>
            <a:ext cx="354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66"/>
          <p:cNvSpPr/>
          <p:nvPr/>
        </p:nvSpPr>
        <p:spPr>
          <a:xfrm rot="16260000">
            <a:off x="-581040" y="293832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67"/>
          <p:cNvSpPr/>
          <p:nvPr/>
        </p:nvSpPr>
        <p:spPr>
          <a:xfrm>
            <a:off x="5514480" y="2535120"/>
            <a:ext cx="228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68"/>
          <p:cNvSpPr/>
          <p:nvPr/>
        </p:nvSpPr>
        <p:spPr>
          <a:xfrm>
            <a:off x="3686400" y="6073920"/>
            <a:ext cx="258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n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Low Dispersion Verses High Dispers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Average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027"/>
              <p:cNvSpPr txBox="1"/>
              <p:nvPr/>
            </p:nvSpPr>
            <p:spPr>
              <a:xfrm>
                <a:off x="1625760" y="2252520"/>
                <a:ext cx="6146640" cy="32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Mean Squared 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7"/>
              <p:cNvSpPr txBox="1"/>
              <p:nvPr/>
            </p:nvSpPr>
            <p:spPr>
              <a:xfrm>
                <a:off x="1676520" y="2057400"/>
                <a:ext cx="48765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The Varianc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027"/>
              <p:cNvSpPr txBox="1"/>
              <p:nvPr/>
            </p:nvSpPr>
            <p:spPr>
              <a:xfrm>
                <a:off x="1790640" y="2184480"/>
                <a:ext cx="3552840" cy="41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pulation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27"/>
              <p:cNvSpPr txBox="1"/>
              <p:nvPr/>
            </p:nvSpPr>
            <p:spPr>
              <a:xfrm>
                <a:off x="1638360" y="2895480"/>
                <a:ext cx="532764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riance is given in squared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deviation is the square root of vari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tandard 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027"/>
              <p:cNvSpPr txBox="1"/>
              <p:nvPr/>
            </p:nvSpPr>
            <p:spPr>
              <a:xfrm>
                <a:off x="2085840" y="2759040"/>
                <a:ext cx="474192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opulation Standard 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2590920" y="2971800"/>
                <a:ext cx="42037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tandard 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2438280" y="3048120"/>
                <a:ext cx="492768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tandard Devia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2085840" y="2759040"/>
                <a:ext cx="474192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Population Parameter Versus Sample Statistic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5D9780E7-6B5B-4F02-BADD-E2978E7FB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Use the Standard Dev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e of variability or dispersion. Its square root is the standard dev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ntitative index of a distribution’s spread, or variability; the square root of the variance for a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of the amount of variance for a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alculate the likelihood (probability) of an event occur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45C069F8-EEC6-483E-90B7-16F906D4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02000" y="1143000"/>
            <a:ext cx="4535280" cy="83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1641600" y="2136600"/>
            <a:ext cx="5378400" cy="83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1751040" y="3063960"/>
            <a:ext cx="5452920" cy="893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2935440" y="3973680"/>
            <a:ext cx="4278240" cy="91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773280" y="5095800"/>
            <a:ext cx="6724080" cy="1076400"/>
            <a:chOff x="773280" y="5095800"/>
            <a:chExt cx="6724080" cy="1076400"/>
          </a:xfrm>
        </p:grpSpPr>
        <p:pic>
          <p:nvPicPr>
            <p:cNvPr id="216" name="Picture 9" descr=""/>
            <p:cNvPicPr/>
            <p:nvPr/>
          </p:nvPicPr>
          <p:blipFill>
            <a:blip r:embed="rId5"/>
            <a:stretch/>
          </p:blipFill>
          <p:spPr>
            <a:xfrm>
              <a:off x="3566880" y="5095800"/>
              <a:ext cx="39304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/>
            <p:cNvSpPr/>
            <p:nvPr/>
          </p:nvSpPr>
          <p:spPr>
            <a:xfrm>
              <a:off x="773280" y="5532480"/>
              <a:ext cx="30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ndard Deviatio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1FF1B2F6-8CEC-4212-9D5B-DBFE5753D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0440" y="228600"/>
            <a:ext cx="65818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7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lculating a Standard Deviation: Number of Sales Calls per Day for Eight Salespeople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928800" y="781200"/>
            <a:ext cx="728640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407880" y="5638680"/>
            <a:ext cx="82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mation of this column is not used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 of the standard dev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The Normal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sha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of its values are within plus or minus 3 standard d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Q. is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rc 2"/>
          <p:cNvSpPr/>
          <p:nvPr/>
        </p:nvSpPr>
        <p:spPr>
          <a:xfrm>
            <a:off x="1339920" y="3657600"/>
            <a:ext cx="1904760" cy="16765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rc 3"/>
          <p:cNvSpPr/>
          <p:nvPr/>
        </p:nvSpPr>
        <p:spPr>
          <a:xfrm>
            <a:off x="3249720" y="22906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rc 4"/>
          <p:cNvSpPr/>
          <p:nvPr/>
        </p:nvSpPr>
        <p:spPr>
          <a:xfrm>
            <a:off x="4616280" y="22924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344600" y="563868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616280" y="2290680"/>
            <a:ext cx="0" cy="33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rc 7"/>
          <p:cNvSpPr/>
          <p:nvPr/>
        </p:nvSpPr>
        <p:spPr>
          <a:xfrm>
            <a:off x="599436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987720" y="586728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68332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3244680" y="365760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3549600" y="2824200"/>
            <a:ext cx="0" cy="282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750000" y="500544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2254320" y="512928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Normal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rc 2"/>
          <p:cNvSpPr/>
          <p:nvPr/>
        </p:nvSpPr>
        <p:spPr>
          <a:xfrm>
            <a:off x="160020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rc 3"/>
          <p:cNvSpPr/>
          <p:nvPr/>
        </p:nvSpPr>
        <p:spPr>
          <a:xfrm>
            <a:off x="3511440" y="22924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rc 4"/>
          <p:cNvSpPr/>
          <p:nvPr/>
        </p:nvSpPr>
        <p:spPr>
          <a:xfrm>
            <a:off x="4876920" y="229392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70" y="0"/>
                  <a:pt x="21517" y="9579"/>
                  <a:pt x="21599" y="21449"/>
                </a:cubicBezTo>
              </a:path>
              <a:path stroke="0" w="21599" h="21600">
                <a:moveTo>
                  <a:pt x="-1" y="0"/>
                </a:moveTo>
                <a:cubicBezTo>
                  <a:pt x="11870" y="0"/>
                  <a:pt x="21517" y="9579"/>
                  <a:pt x="21599" y="21449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1604880" y="563868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600200" y="533880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8462880" y="518148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876920" y="2290680"/>
            <a:ext cx="0" cy="33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3200400" y="4576680"/>
            <a:ext cx="0" cy="10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2286000" y="5262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6477120" y="4471920"/>
            <a:ext cx="0" cy="11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212760" y="475920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2.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13"/>
          <p:cNvSpPr/>
          <p:nvPr/>
        </p:nvSpPr>
        <p:spPr>
          <a:xfrm>
            <a:off x="6253200" y="3618000"/>
            <a:ext cx="1905120" cy="172404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fill="none" w="21600" h="22193">
                <a:moveTo>
                  <a:pt x="21564" y="22192"/>
                </a:moveTo>
                <a:cubicBezTo>
                  <a:pt x="9648" y="22173"/>
                  <a:pt x="0" y="12508"/>
                  <a:pt x="0" y="593"/>
                </a:cubicBezTo>
                <a:cubicBezTo>
                  <a:pt x="-1" y="395"/>
                  <a:pt x="2" y="197"/>
                  <a:pt x="8" y="0"/>
                </a:cubicBezTo>
              </a:path>
              <a:path stroke="0" w="21600" h="22193">
                <a:moveTo>
                  <a:pt x="21564" y="22192"/>
                </a:moveTo>
                <a:cubicBezTo>
                  <a:pt x="9648" y="22173"/>
                  <a:pt x="0" y="12508"/>
                  <a:pt x="0" y="593"/>
                </a:cubicBezTo>
                <a:cubicBezTo>
                  <a:pt x="-1" y="395"/>
                  <a:pt x="2" y="197"/>
                  <a:pt x="8" y="0"/>
                </a:cubicBezTo>
                <a:lnTo>
                  <a:pt x="21600" y="593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1872000" y="387036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13.5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446640" y="401472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34.13%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5009040" y="401472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34.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6766200" y="39434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13.5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162920" y="4614840"/>
            <a:ext cx="0" cy="52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2519280" y="4729320"/>
            <a:ext cx="300240" cy="68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1224000" y="5186520"/>
            <a:ext cx="757080" cy="29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7467480" y="52243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7927920" y="4879440"/>
            <a:ext cx="528840" cy="605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8005680" y="4502160"/>
            <a:ext cx="113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2.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Normal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05160" y="6148440"/>
            <a:ext cx="266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4398840" y="1903320"/>
            <a:ext cx="1800" cy="41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1049400" y="6014880"/>
            <a:ext cx="763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5"/>
          <p:cNvSpPr/>
          <p:nvPr/>
        </p:nvSpPr>
        <p:spPr>
          <a:xfrm>
            <a:off x="588960" y="1822320"/>
            <a:ext cx="7697880" cy="4192560"/>
          </a:xfrm>
          <a:custGeom>
            <a:avLst/>
            <a:gdLst>
              <a:gd name="textAreaLeft" fmla="*/ 0 w 7697880"/>
              <a:gd name="textAreaRight" fmla="*/ 7698240 w 7697880"/>
              <a:gd name="textAreaTop" fmla="*/ 0 h 4192560"/>
              <a:gd name="textAreaBottom" fmla="*/ 4192920 h 4192560"/>
            </a:gdLst>
            <a:ahLst/>
            <a:rect l="textAreaLeft" t="textAreaTop" r="textAreaRight" b="textAreaBottom"/>
            <a:pathLst>
              <a:path w="4849" h="2641">
                <a:moveTo>
                  <a:pt x="0" y="2639"/>
                </a:moveTo>
                <a:lnTo>
                  <a:pt x="61" y="2638"/>
                </a:lnTo>
                <a:lnTo>
                  <a:pt x="121" y="2638"/>
                </a:lnTo>
                <a:lnTo>
                  <a:pt x="182" y="2637"/>
                </a:lnTo>
                <a:lnTo>
                  <a:pt x="242" y="2636"/>
                </a:lnTo>
                <a:lnTo>
                  <a:pt x="303" y="2634"/>
                </a:lnTo>
                <a:lnTo>
                  <a:pt x="364" y="2632"/>
                </a:lnTo>
                <a:lnTo>
                  <a:pt x="424" y="2628"/>
                </a:lnTo>
                <a:lnTo>
                  <a:pt x="485" y="2624"/>
                </a:lnTo>
                <a:lnTo>
                  <a:pt x="546" y="2618"/>
                </a:lnTo>
                <a:lnTo>
                  <a:pt x="606" y="2611"/>
                </a:lnTo>
                <a:lnTo>
                  <a:pt x="666" y="2601"/>
                </a:lnTo>
                <a:lnTo>
                  <a:pt x="727" y="2588"/>
                </a:lnTo>
                <a:lnTo>
                  <a:pt x="788" y="2571"/>
                </a:lnTo>
                <a:lnTo>
                  <a:pt x="848" y="2550"/>
                </a:lnTo>
                <a:lnTo>
                  <a:pt x="909" y="2524"/>
                </a:lnTo>
                <a:lnTo>
                  <a:pt x="970" y="2492"/>
                </a:lnTo>
                <a:lnTo>
                  <a:pt x="1030" y="2452"/>
                </a:lnTo>
                <a:lnTo>
                  <a:pt x="1091" y="2405"/>
                </a:lnTo>
                <a:lnTo>
                  <a:pt x="1151" y="2349"/>
                </a:lnTo>
                <a:lnTo>
                  <a:pt x="1212" y="2283"/>
                </a:lnTo>
                <a:lnTo>
                  <a:pt x="1273" y="2206"/>
                </a:lnTo>
                <a:lnTo>
                  <a:pt x="1333" y="2118"/>
                </a:lnTo>
                <a:lnTo>
                  <a:pt x="1394" y="2018"/>
                </a:lnTo>
                <a:lnTo>
                  <a:pt x="1454" y="1906"/>
                </a:lnTo>
                <a:lnTo>
                  <a:pt x="1515" y="1783"/>
                </a:lnTo>
                <a:lnTo>
                  <a:pt x="1515" y="2640"/>
                </a:lnTo>
                <a:lnTo>
                  <a:pt x="1515" y="1783"/>
                </a:lnTo>
                <a:lnTo>
                  <a:pt x="1576" y="1650"/>
                </a:lnTo>
                <a:lnTo>
                  <a:pt x="1636" y="1506"/>
                </a:lnTo>
                <a:lnTo>
                  <a:pt x="1697" y="1355"/>
                </a:lnTo>
                <a:lnTo>
                  <a:pt x="1758" y="1198"/>
                </a:lnTo>
                <a:lnTo>
                  <a:pt x="1818" y="1039"/>
                </a:lnTo>
                <a:lnTo>
                  <a:pt x="1878" y="880"/>
                </a:lnTo>
                <a:lnTo>
                  <a:pt x="1939" y="723"/>
                </a:lnTo>
                <a:lnTo>
                  <a:pt x="2000" y="574"/>
                </a:lnTo>
                <a:lnTo>
                  <a:pt x="2060" y="435"/>
                </a:lnTo>
                <a:lnTo>
                  <a:pt x="2121" y="310"/>
                </a:lnTo>
                <a:lnTo>
                  <a:pt x="2182" y="203"/>
                </a:lnTo>
                <a:lnTo>
                  <a:pt x="2242" y="117"/>
                </a:lnTo>
                <a:lnTo>
                  <a:pt x="2303" y="53"/>
                </a:lnTo>
                <a:lnTo>
                  <a:pt x="2363" y="13"/>
                </a:lnTo>
                <a:lnTo>
                  <a:pt x="2424" y="0"/>
                </a:lnTo>
                <a:lnTo>
                  <a:pt x="2485" y="13"/>
                </a:lnTo>
                <a:lnTo>
                  <a:pt x="2545" y="53"/>
                </a:lnTo>
                <a:lnTo>
                  <a:pt x="2606" y="117"/>
                </a:lnTo>
                <a:lnTo>
                  <a:pt x="2666" y="203"/>
                </a:lnTo>
                <a:lnTo>
                  <a:pt x="2727" y="310"/>
                </a:lnTo>
                <a:lnTo>
                  <a:pt x="2788" y="435"/>
                </a:lnTo>
                <a:lnTo>
                  <a:pt x="2848" y="574"/>
                </a:lnTo>
                <a:lnTo>
                  <a:pt x="2909" y="723"/>
                </a:lnTo>
                <a:lnTo>
                  <a:pt x="2970" y="880"/>
                </a:lnTo>
                <a:lnTo>
                  <a:pt x="3030" y="1039"/>
                </a:lnTo>
                <a:lnTo>
                  <a:pt x="3090" y="1198"/>
                </a:lnTo>
                <a:lnTo>
                  <a:pt x="3151" y="1355"/>
                </a:lnTo>
                <a:lnTo>
                  <a:pt x="3212" y="1506"/>
                </a:lnTo>
                <a:lnTo>
                  <a:pt x="3272" y="1650"/>
                </a:lnTo>
                <a:lnTo>
                  <a:pt x="3333" y="1783"/>
                </a:lnTo>
                <a:lnTo>
                  <a:pt x="3333" y="2640"/>
                </a:lnTo>
                <a:lnTo>
                  <a:pt x="3333" y="1783"/>
                </a:lnTo>
                <a:lnTo>
                  <a:pt x="3394" y="1906"/>
                </a:lnTo>
                <a:lnTo>
                  <a:pt x="3454" y="2018"/>
                </a:lnTo>
                <a:lnTo>
                  <a:pt x="3515" y="2118"/>
                </a:lnTo>
                <a:lnTo>
                  <a:pt x="3575" y="2206"/>
                </a:lnTo>
                <a:lnTo>
                  <a:pt x="3636" y="2283"/>
                </a:lnTo>
                <a:lnTo>
                  <a:pt x="3697" y="2349"/>
                </a:lnTo>
                <a:lnTo>
                  <a:pt x="3757" y="2405"/>
                </a:lnTo>
                <a:lnTo>
                  <a:pt x="3818" y="2452"/>
                </a:lnTo>
                <a:lnTo>
                  <a:pt x="3878" y="2492"/>
                </a:lnTo>
                <a:lnTo>
                  <a:pt x="3939" y="2524"/>
                </a:lnTo>
                <a:lnTo>
                  <a:pt x="4000" y="2550"/>
                </a:lnTo>
                <a:lnTo>
                  <a:pt x="4060" y="2571"/>
                </a:lnTo>
                <a:lnTo>
                  <a:pt x="4121" y="2588"/>
                </a:lnTo>
                <a:lnTo>
                  <a:pt x="4182" y="2601"/>
                </a:lnTo>
                <a:lnTo>
                  <a:pt x="4242" y="2611"/>
                </a:lnTo>
                <a:lnTo>
                  <a:pt x="4302" y="2618"/>
                </a:lnTo>
                <a:lnTo>
                  <a:pt x="4363" y="2624"/>
                </a:lnTo>
                <a:lnTo>
                  <a:pt x="4424" y="2628"/>
                </a:lnTo>
                <a:lnTo>
                  <a:pt x="4484" y="2632"/>
                </a:lnTo>
                <a:lnTo>
                  <a:pt x="4545" y="2634"/>
                </a:lnTo>
                <a:lnTo>
                  <a:pt x="4606" y="2636"/>
                </a:lnTo>
                <a:lnTo>
                  <a:pt x="4666" y="2637"/>
                </a:lnTo>
                <a:lnTo>
                  <a:pt x="4727" y="2638"/>
                </a:lnTo>
                <a:lnTo>
                  <a:pt x="4787" y="2638"/>
                </a:lnTo>
                <a:lnTo>
                  <a:pt x="4848" y="2639"/>
                </a:lnTo>
              </a:path>
            </a:pathLst>
          </a:custGeom>
          <a:noFill/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2701080" y="604836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757120" y="604836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8"/>
          <p:cNvSpPr/>
          <p:nvPr/>
        </p:nvSpPr>
        <p:spPr>
          <a:xfrm>
            <a:off x="6842160" y="5829480"/>
            <a:ext cx="1440" cy="225360"/>
          </a:xfrm>
          <a:custGeom>
            <a:avLst/>
            <a:gdLst>
              <a:gd name="textAreaLeft" fmla="*/ 0 w 1440"/>
              <a:gd name="textAreaRight" fmla="*/ 1800 w 14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" h="142">
                <a:moveTo>
                  <a:pt x="0" y="0"/>
                </a:move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9"/>
          <p:cNvSpPr/>
          <p:nvPr/>
        </p:nvSpPr>
        <p:spPr>
          <a:xfrm>
            <a:off x="2031840" y="5829480"/>
            <a:ext cx="1800" cy="185400"/>
          </a:xfrm>
          <a:custGeom>
            <a:avLst/>
            <a:gdLst>
              <a:gd name="textAreaLeft" fmla="*/ 0 w 1800"/>
              <a:gd name="textAreaRight" fmla="*/ 2160 w 18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" h="117">
                <a:moveTo>
                  <a:pt x="0" y="0"/>
                </a:moveTo>
                <a:lnTo>
                  <a:pt x="0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061880" y="6054840"/>
            <a:ext cx="70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576480" y="6013440"/>
            <a:ext cx="70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770840" y="6013440"/>
            <a:ext cx="53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Normal Curve: IQ Examp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ized Normal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etrical about its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identifies highest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nite number of cases - a continuous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 under curve has a probability density =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of zero, standard deviation of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 Normal Curv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rve is bell-shaped or  symmet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68% of the observations will fall within 1 standard deviation of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95% of the observations will fall within approximately  2 (1.96) standard deviations of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of the observations will fall within 3 standard deviations of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rc 2"/>
          <p:cNvSpPr/>
          <p:nvPr/>
        </p:nvSpPr>
        <p:spPr>
          <a:xfrm>
            <a:off x="160020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rc 3"/>
          <p:cNvSpPr/>
          <p:nvPr/>
        </p:nvSpPr>
        <p:spPr>
          <a:xfrm>
            <a:off x="3510000" y="22906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rc 4"/>
          <p:cNvSpPr/>
          <p:nvPr/>
        </p:nvSpPr>
        <p:spPr>
          <a:xfrm>
            <a:off x="4876920" y="22924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1604880" y="563868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4876920" y="2290680"/>
            <a:ext cx="0" cy="33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rc 7"/>
          <p:cNvSpPr/>
          <p:nvPr/>
        </p:nvSpPr>
        <p:spPr>
          <a:xfrm>
            <a:off x="625464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4724280" y="5638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594360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0"/>
          <p:cNvSpPr/>
          <p:nvPr/>
        </p:nvSpPr>
        <p:spPr>
          <a:xfrm>
            <a:off x="3505320" y="3657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380988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7010280" y="5005440"/>
            <a:ext cx="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2514600" y="511956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5813280" y="5562720"/>
            <a:ext cx="1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3581280" y="56386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2285280" y="56386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693396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8213400" y="5483160"/>
            <a:ext cx="410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A Standardized Normal Curv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opulation Parameter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in a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characteristics of a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k lower-case letters as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imes New Roman"/>
              </a:rPr>
              <a:t>The Standardized Normal is the Distribution of Z</a:t>
            </a:r>
            <a:endParaRPr b="0" lang="en-US" sz="40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649520" y="6494400"/>
            <a:ext cx="266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4572000" y="1920960"/>
            <a:ext cx="1440" cy="39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1222200" y="5908680"/>
            <a:ext cx="763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6"/>
          <p:cNvSpPr/>
          <p:nvPr/>
        </p:nvSpPr>
        <p:spPr>
          <a:xfrm>
            <a:off x="762120" y="1919160"/>
            <a:ext cx="7697520" cy="3989520"/>
          </a:xfrm>
          <a:custGeom>
            <a:avLst/>
            <a:gdLst>
              <a:gd name="textAreaLeft" fmla="*/ 0 w 7697520"/>
              <a:gd name="textAreaRight" fmla="*/ 7697880 w 769752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4849" h="2513">
                <a:moveTo>
                  <a:pt x="0" y="2511"/>
                </a:moveTo>
                <a:lnTo>
                  <a:pt x="61" y="2510"/>
                </a:lnTo>
                <a:lnTo>
                  <a:pt x="121" y="2510"/>
                </a:lnTo>
                <a:lnTo>
                  <a:pt x="182" y="2509"/>
                </a:lnTo>
                <a:lnTo>
                  <a:pt x="242" y="2508"/>
                </a:lnTo>
                <a:lnTo>
                  <a:pt x="303" y="2506"/>
                </a:lnTo>
                <a:lnTo>
                  <a:pt x="364" y="2504"/>
                </a:lnTo>
                <a:lnTo>
                  <a:pt x="424" y="2501"/>
                </a:lnTo>
                <a:lnTo>
                  <a:pt x="485" y="2497"/>
                </a:lnTo>
                <a:lnTo>
                  <a:pt x="546" y="2491"/>
                </a:lnTo>
                <a:lnTo>
                  <a:pt x="606" y="2484"/>
                </a:lnTo>
                <a:lnTo>
                  <a:pt x="666" y="2475"/>
                </a:lnTo>
                <a:lnTo>
                  <a:pt x="727" y="2463"/>
                </a:lnTo>
                <a:lnTo>
                  <a:pt x="788" y="2446"/>
                </a:lnTo>
                <a:lnTo>
                  <a:pt x="848" y="2426"/>
                </a:lnTo>
                <a:lnTo>
                  <a:pt x="909" y="2402"/>
                </a:lnTo>
                <a:lnTo>
                  <a:pt x="970" y="2371"/>
                </a:lnTo>
                <a:lnTo>
                  <a:pt x="1030" y="2333"/>
                </a:lnTo>
                <a:lnTo>
                  <a:pt x="1091" y="2288"/>
                </a:lnTo>
                <a:lnTo>
                  <a:pt x="1151" y="2235"/>
                </a:lnTo>
                <a:lnTo>
                  <a:pt x="1212" y="2172"/>
                </a:lnTo>
                <a:lnTo>
                  <a:pt x="1273" y="2099"/>
                </a:lnTo>
                <a:lnTo>
                  <a:pt x="1333" y="2015"/>
                </a:lnTo>
                <a:lnTo>
                  <a:pt x="1394" y="1920"/>
                </a:lnTo>
                <a:lnTo>
                  <a:pt x="1454" y="1814"/>
                </a:lnTo>
                <a:lnTo>
                  <a:pt x="1515" y="1697"/>
                </a:lnTo>
                <a:lnTo>
                  <a:pt x="1515" y="2512"/>
                </a:lnTo>
                <a:lnTo>
                  <a:pt x="1515" y="1697"/>
                </a:lnTo>
                <a:lnTo>
                  <a:pt x="1576" y="1570"/>
                </a:lnTo>
                <a:lnTo>
                  <a:pt x="1636" y="1433"/>
                </a:lnTo>
                <a:lnTo>
                  <a:pt x="1697" y="1289"/>
                </a:lnTo>
                <a:lnTo>
                  <a:pt x="1758" y="1140"/>
                </a:lnTo>
                <a:lnTo>
                  <a:pt x="1818" y="989"/>
                </a:lnTo>
                <a:lnTo>
                  <a:pt x="1878" y="837"/>
                </a:lnTo>
                <a:lnTo>
                  <a:pt x="1939" y="688"/>
                </a:lnTo>
                <a:lnTo>
                  <a:pt x="2000" y="546"/>
                </a:lnTo>
                <a:lnTo>
                  <a:pt x="2060" y="414"/>
                </a:lnTo>
                <a:lnTo>
                  <a:pt x="2121" y="295"/>
                </a:lnTo>
                <a:lnTo>
                  <a:pt x="2182" y="193"/>
                </a:lnTo>
                <a:lnTo>
                  <a:pt x="2242" y="111"/>
                </a:lnTo>
                <a:lnTo>
                  <a:pt x="2303" y="50"/>
                </a:lnTo>
                <a:lnTo>
                  <a:pt x="2363" y="12"/>
                </a:lnTo>
                <a:lnTo>
                  <a:pt x="2424" y="0"/>
                </a:lnTo>
                <a:lnTo>
                  <a:pt x="2485" y="12"/>
                </a:lnTo>
                <a:lnTo>
                  <a:pt x="2545" y="50"/>
                </a:lnTo>
                <a:lnTo>
                  <a:pt x="2606" y="111"/>
                </a:lnTo>
                <a:lnTo>
                  <a:pt x="2666" y="193"/>
                </a:lnTo>
                <a:lnTo>
                  <a:pt x="2727" y="295"/>
                </a:lnTo>
                <a:lnTo>
                  <a:pt x="2788" y="414"/>
                </a:lnTo>
                <a:lnTo>
                  <a:pt x="2848" y="546"/>
                </a:lnTo>
                <a:lnTo>
                  <a:pt x="2909" y="688"/>
                </a:lnTo>
                <a:lnTo>
                  <a:pt x="2970" y="837"/>
                </a:lnTo>
                <a:lnTo>
                  <a:pt x="3030" y="989"/>
                </a:lnTo>
                <a:lnTo>
                  <a:pt x="3090" y="1140"/>
                </a:lnTo>
                <a:lnTo>
                  <a:pt x="3151" y="1289"/>
                </a:lnTo>
                <a:lnTo>
                  <a:pt x="3212" y="1433"/>
                </a:lnTo>
                <a:lnTo>
                  <a:pt x="3272" y="1570"/>
                </a:lnTo>
                <a:lnTo>
                  <a:pt x="3333" y="1697"/>
                </a:lnTo>
                <a:lnTo>
                  <a:pt x="3333" y="2512"/>
                </a:lnTo>
                <a:lnTo>
                  <a:pt x="3333" y="1697"/>
                </a:lnTo>
                <a:lnTo>
                  <a:pt x="3394" y="1814"/>
                </a:lnTo>
                <a:lnTo>
                  <a:pt x="3454" y="1920"/>
                </a:lnTo>
                <a:lnTo>
                  <a:pt x="3515" y="2015"/>
                </a:lnTo>
                <a:lnTo>
                  <a:pt x="3575" y="2099"/>
                </a:lnTo>
                <a:lnTo>
                  <a:pt x="3636" y="2172"/>
                </a:lnTo>
                <a:lnTo>
                  <a:pt x="3697" y="2235"/>
                </a:lnTo>
                <a:lnTo>
                  <a:pt x="3757" y="2288"/>
                </a:lnTo>
                <a:lnTo>
                  <a:pt x="3818" y="2333"/>
                </a:lnTo>
                <a:lnTo>
                  <a:pt x="3878" y="2371"/>
                </a:lnTo>
                <a:lnTo>
                  <a:pt x="3939" y="2402"/>
                </a:lnTo>
                <a:lnTo>
                  <a:pt x="4000" y="2426"/>
                </a:lnTo>
                <a:lnTo>
                  <a:pt x="4060" y="2446"/>
                </a:lnTo>
                <a:lnTo>
                  <a:pt x="4121" y="2463"/>
                </a:lnTo>
                <a:lnTo>
                  <a:pt x="4182" y="2475"/>
                </a:lnTo>
                <a:lnTo>
                  <a:pt x="4242" y="2484"/>
                </a:lnTo>
                <a:lnTo>
                  <a:pt x="4302" y="2491"/>
                </a:lnTo>
                <a:lnTo>
                  <a:pt x="4363" y="2497"/>
                </a:lnTo>
                <a:lnTo>
                  <a:pt x="4424" y="2501"/>
                </a:lnTo>
                <a:lnTo>
                  <a:pt x="4484" y="2504"/>
                </a:lnTo>
                <a:lnTo>
                  <a:pt x="4545" y="2506"/>
                </a:lnTo>
                <a:lnTo>
                  <a:pt x="4606" y="2508"/>
                </a:lnTo>
                <a:lnTo>
                  <a:pt x="4666" y="2509"/>
                </a:lnTo>
                <a:lnTo>
                  <a:pt x="4727" y="2510"/>
                </a:lnTo>
                <a:lnTo>
                  <a:pt x="4787" y="2510"/>
                </a:lnTo>
                <a:lnTo>
                  <a:pt x="4848" y="2511"/>
                </a:lnTo>
              </a:path>
            </a:pathLst>
          </a:custGeom>
          <a:noFill/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2889720" y="5942160"/>
            <a:ext cx="34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956560" y="5942160"/>
            <a:ext cx="37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9"/>
          <p:cNvSpPr/>
          <p:nvPr/>
        </p:nvSpPr>
        <p:spPr>
          <a:xfrm>
            <a:off x="7015320" y="5722920"/>
            <a:ext cx="1440" cy="225360"/>
          </a:xfrm>
          <a:custGeom>
            <a:avLst/>
            <a:gdLst>
              <a:gd name="textAreaLeft" fmla="*/ 0 w 1440"/>
              <a:gd name="textAreaRight" fmla="*/ 1800 w 14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" h="142">
                <a:moveTo>
                  <a:pt x="0" y="0"/>
                </a:moveTo>
                <a:lnTo>
                  <a:pt x="0" y="1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0"/>
          <p:cNvSpPr/>
          <p:nvPr/>
        </p:nvSpPr>
        <p:spPr>
          <a:xfrm>
            <a:off x="2205000" y="5722920"/>
            <a:ext cx="1800" cy="185760"/>
          </a:xfrm>
          <a:custGeom>
            <a:avLst/>
            <a:gdLst>
              <a:gd name="textAreaLeft" fmla="*/ 0 w 1800"/>
              <a:gd name="textAreaRight" fmla="*/ 2160 w 180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" h="117">
                <a:moveTo>
                  <a:pt x="0" y="0"/>
                </a:moveTo>
                <a:lnTo>
                  <a:pt x="0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3200400" y="2577960"/>
                <a:ext cx="27813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ized Score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1879560" y="3206880"/>
                <a:ext cx="461016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ized Value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mpare an individual value to the population mean in units of the 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Times New Roman"/>
              </a:rPr>
              <a:t>Linear Transformation of Any Normal Variable Into a Standardized Normal Variable</a:t>
            </a:r>
            <a:endParaRPr b="0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1452600" y="3886200"/>
            <a:ext cx="63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4"/>
          <p:cNvSpPr/>
          <p:nvPr/>
        </p:nvSpPr>
        <p:spPr>
          <a:xfrm>
            <a:off x="2058840" y="2668680"/>
            <a:ext cx="992160" cy="1220760"/>
          </a:xfrm>
          <a:custGeom>
            <a:avLst/>
            <a:gdLst>
              <a:gd name="textAreaLeft" fmla="*/ 0 w 992160"/>
              <a:gd name="textAreaRight" fmla="*/ 992520 w 992160"/>
              <a:gd name="textAreaTop" fmla="*/ 0 h 1220760"/>
              <a:gd name="textAreaBottom" fmla="*/ 1220760 h 1220760"/>
            </a:gdLst>
            <a:ahLst/>
            <a:rect l="textAreaLeft" t="textAreaTop" r="textAreaRight" b="textAreaBottom"/>
            <a:pathLst>
              <a:path w="625" h="769">
                <a:moveTo>
                  <a:pt x="0" y="768"/>
                </a:moveTo>
                <a:lnTo>
                  <a:pt x="43" y="623"/>
                </a:lnTo>
                <a:lnTo>
                  <a:pt x="86" y="486"/>
                </a:lnTo>
                <a:lnTo>
                  <a:pt x="129" y="357"/>
                </a:lnTo>
                <a:lnTo>
                  <a:pt x="151" y="298"/>
                </a:lnTo>
                <a:lnTo>
                  <a:pt x="172" y="239"/>
                </a:lnTo>
                <a:lnTo>
                  <a:pt x="194" y="188"/>
                </a:lnTo>
                <a:lnTo>
                  <a:pt x="212" y="141"/>
                </a:lnTo>
                <a:lnTo>
                  <a:pt x="234" y="102"/>
                </a:lnTo>
                <a:lnTo>
                  <a:pt x="255" y="67"/>
                </a:lnTo>
                <a:lnTo>
                  <a:pt x="277" y="39"/>
                </a:lnTo>
                <a:lnTo>
                  <a:pt x="295" y="16"/>
                </a:lnTo>
                <a:lnTo>
                  <a:pt x="317" y="4"/>
                </a:lnTo>
                <a:lnTo>
                  <a:pt x="335" y="0"/>
                </a:lnTo>
                <a:lnTo>
                  <a:pt x="357" y="8"/>
                </a:lnTo>
                <a:lnTo>
                  <a:pt x="375" y="27"/>
                </a:lnTo>
                <a:lnTo>
                  <a:pt x="397" y="59"/>
                </a:lnTo>
                <a:lnTo>
                  <a:pt x="418" y="102"/>
                </a:lnTo>
                <a:lnTo>
                  <a:pt x="440" y="153"/>
                </a:lnTo>
                <a:lnTo>
                  <a:pt x="458" y="208"/>
                </a:lnTo>
                <a:lnTo>
                  <a:pt x="480" y="270"/>
                </a:lnTo>
                <a:lnTo>
                  <a:pt x="501" y="337"/>
                </a:lnTo>
                <a:lnTo>
                  <a:pt x="538" y="470"/>
                </a:lnTo>
                <a:lnTo>
                  <a:pt x="556" y="533"/>
                </a:lnTo>
                <a:lnTo>
                  <a:pt x="572" y="592"/>
                </a:lnTo>
                <a:lnTo>
                  <a:pt x="587" y="650"/>
                </a:lnTo>
                <a:lnTo>
                  <a:pt x="602" y="697"/>
                </a:lnTo>
                <a:lnTo>
                  <a:pt x="615" y="737"/>
                </a:lnTo>
                <a:lnTo>
                  <a:pt x="624" y="76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5"/>
          <p:cNvSpPr/>
          <p:nvPr/>
        </p:nvSpPr>
        <p:spPr>
          <a:xfrm>
            <a:off x="4876920" y="3502080"/>
            <a:ext cx="2822400" cy="3873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778" h="244">
                <a:moveTo>
                  <a:pt x="0" y="243"/>
                </a:moveTo>
                <a:lnTo>
                  <a:pt x="264" y="153"/>
                </a:lnTo>
                <a:lnTo>
                  <a:pt x="396" y="114"/>
                </a:lnTo>
                <a:lnTo>
                  <a:pt x="528" y="75"/>
                </a:lnTo>
                <a:lnTo>
                  <a:pt x="652" y="43"/>
                </a:lnTo>
                <a:lnTo>
                  <a:pt x="776" y="20"/>
                </a:lnTo>
                <a:lnTo>
                  <a:pt x="893" y="4"/>
                </a:lnTo>
                <a:lnTo>
                  <a:pt x="1009" y="0"/>
                </a:lnTo>
                <a:lnTo>
                  <a:pt x="1063" y="4"/>
                </a:lnTo>
                <a:lnTo>
                  <a:pt x="1118" y="8"/>
                </a:lnTo>
                <a:lnTo>
                  <a:pt x="1234" y="31"/>
                </a:lnTo>
                <a:lnTo>
                  <a:pt x="1350" y="67"/>
                </a:lnTo>
                <a:lnTo>
                  <a:pt x="1451" y="106"/>
                </a:lnTo>
                <a:lnTo>
                  <a:pt x="1552" y="149"/>
                </a:lnTo>
                <a:lnTo>
                  <a:pt x="1645" y="188"/>
                </a:lnTo>
                <a:lnTo>
                  <a:pt x="1715" y="219"/>
                </a:lnTo>
                <a:lnTo>
                  <a:pt x="1777" y="243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2595600" y="6172200"/>
            <a:ext cx="35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"/>
          <p:cNvSpPr/>
          <p:nvPr/>
        </p:nvSpPr>
        <p:spPr>
          <a:xfrm>
            <a:off x="2892600" y="5254560"/>
            <a:ext cx="2901600" cy="920880"/>
          </a:xfrm>
          <a:custGeom>
            <a:avLst/>
            <a:gdLst>
              <a:gd name="textAreaLeft" fmla="*/ 0 w 2901600"/>
              <a:gd name="textAreaRight" fmla="*/ 2901960 w 29016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828" h="580">
                <a:moveTo>
                  <a:pt x="0" y="579"/>
                </a:moveTo>
                <a:lnTo>
                  <a:pt x="134" y="473"/>
                </a:lnTo>
                <a:lnTo>
                  <a:pt x="262" y="367"/>
                </a:lnTo>
                <a:lnTo>
                  <a:pt x="397" y="268"/>
                </a:lnTo>
                <a:lnTo>
                  <a:pt x="525" y="181"/>
                </a:lnTo>
                <a:lnTo>
                  <a:pt x="653" y="106"/>
                </a:lnTo>
                <a:lnTo>
                  <a:pt x="776" y="50"/>
                </a:lnTo>
                <a:lnTo>
                  <a:pt x="893" y="13"/>
                </a:lnTo>
                <a:lnTo>
                  <a:pt x="951" y="7"/>
                </a:lnTo>
                <a:lnTo>
                  <a:pt x="1010" y="0"/>
                </a:lnTo>
                <a:lnTo>
                  <a:pt x="1068" y="7"/>
                </a:lnTo>
                <a:lnTo>
                  <a:pt x="1126" y="19"/>
                </a:lnTo>
                <a:lnTo>
                  <a:pt x="1185" y="44"/>
                </a:lnTo>
                <a:lnTo>
                  <a:pt x="1249" y="75"/>
                </a:lnTo>
                <a:lnTo>
                  <a:pt x="1366" y="156"/>
                </a:lnTo>
                <a:lnTo>
                  <a:pt x="1483" y="255"/>
                </a:lnTo>
                <a:lnTo>
                  <a:pt x="1588" y="355"/>
                </a:lnTo>
                <a:lnTo>
                  <a:pt x="1687" y="448"/>
                </a:lnTo>
                <a:lnTo>
                  <a:pt x="1728" y="492"/>
                </a:lnTo>
                <a:lnTo>
                  <a:pt x="1769" y="523"/>
                </a:lnTo>
                <a:lnTo>
                  <a:pt x="1798" y="554"/>
                </a:lnTo>
                <a:lnTo>
                  <a:pt x="1827" y="579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495680" y="5110200"/>
            <a:ext cx="0" cy="10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228600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251460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274320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586728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47712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7086600" y="37386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2290680" y="3890880"/>
            <a:ext cx="1747800" cy="228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 flipV="1">
            <a:off x="4041720" y="3889080"/>
            <a:ext cx="1824120" cy="228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3360600" y="617220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2    -1       0     1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2519280" y="3890880"/>
            <a:ext cx="1976400" cy="2205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2747880" y="3890880"/>
            <a:ext cx="2129040" cy="228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 flipV="1">
            <a:off x="3581280" y="6022440"/>
            <a:ext cx="0" cy="14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1"/>
          <p:cNvSpPr/>
          <p:nvPr/>
        </p:nvSpPr>
        <p:spPr>
          <a:xfrm flipV="1">
            <a:off x="5257800" y="6022440"/>
            <a:ext cx="0" cy="14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2"/>
          <p:cNvSpPr/>
          <p:nvPr/>
        </p:nvSpPr>
        <p:spPr>
          <a:xfrm flipV="1">
            <a:off x="4879800" y="3889080"/>
            <a:ext cx="2205360" cy="228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3"/>
          <p:cNvSpPr/>
          <p:nvPr/>
        </p:nvSpPr>
        <p:spPr>
          <a:xfrm flipV="1">
            <a:off x="4498920" y="3889080"/>
            <a:ext cx="1976400" cy="228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4"/>
          <p:cNvSpPr/>
          <p:nvPr/>
        </p:nvSpPr>
        <p:spPr>
          <a:xfrm>
            <a:off x="227520" y="4419720"/>
            <a:ext cx="175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is stre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7040520" y="4495680"/>
            <a:ext cx="1539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is sh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6462360" y="39625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2043000" y="403848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8"/>
          <p:cNvSpPr/>
          <p:nvPr/>
        </p:nvSpPr>
        <p:spPr>
          <a:xfrm>
            <a:off x="7072200" y="342900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2728800" y="342900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7764480" y="39625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1"/>
              <p:cNvSpPr txBox="1"/>
              <p:nvPr/>
            </p:nvSpPr>
            <p:spPr>
              <a:xfrm>
                <a:off x="7162920" y="5486400"/>
                <a:ext cx="1409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41560" y="1905120"/>
            <a:ext cx="4819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ing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rc 2"/>
          <p:cNvSpPr/>
          <p:nvPr/>
        </p:nvSpPr>
        <p:spPr>
          <a:xfrm>
            <a:off x="160020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rc 3"/>
          <p:cNvSpPr/>
          <p:nvPr/>
        </p:nvSpPr>
        <p:spPr>
          <a:xfrm>
            <a:off x="3510000" y="22906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rc 4"/>
          <p:cNvSpPr/>
          <p:nvPr/>
        </p:nvSpPr>
        <p:spPr>
          <a:xfrm>
            <a:off x="4876920" y="22924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1604880" y="563868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4876920" y="2290680"/>
            <a:ext cx="0" cy="337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rc 7"/>
          <p:cNvSpPr/>
          <p:nvPr/>
        </p:nvSpPr>
        <p:spPr>
          <a:xfrm>
            <a:off x="625464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89960" y="966960"/>
            <a:ext cx="32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4648320" y="5410080"/>
            <a:ext cx="549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594360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1"/>
          <p:cNvSpPr/>
          <p:nvPr/>
        </p:nvSpPr>
        <p:spPr>
          <a:xfrm>
            <a:off x="3505320" y="3657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3809880" y="2824200"/>
            <a:ext cx="0" cy="282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7010280" y="5005440"/>
            <a:ext cx="0" cy="6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2514600" y="511020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908120" y="5586480"/>
            <a:ext cx="465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5715000" y="5423040"/>
            <a:ext cx="733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3429000" y="5423040"/>
            <a:ext cx="914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opulation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rc 2"/>
          <p:cNvSpPr/>
          <p:nvPr/>
        </p:nvSpPr>
        <p:spPr>
          <a:xfrm>
            <a:off x="1341360" y="365760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rc 3"/>
          <p:cNvSpPr/>
          <p:nvPr/>
        </p:nvSpPr>
        <p:spPr>
          <a:xfrm>
            <a:off x="3251160" y="22906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rc 4"/>
          <p:cNvSpPr/>
          <p:nvPr/>
        </p:nvSpPr>
        <p:spPr>
          <a:xfrm>
            <a:off x="4618080" y="229248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1498680" y="563868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4618080" y="2290680"/>
            <a:ext cx="0" cy="33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rc 7"/>
          <p:cNvSpPr/>
          <p:nvPr/>
        </p:nvSpPr>
        <p:spPr>
          <a:xfrm>
            <a:off x="5996160" y="3657600"/>
            <a:ext cx="1904760" cy="16765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389480" y="541008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568476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0"/>
          <p:cNvSpPr/>
          <p:nvPr/>
        </p:nvSpPr>
        <p:spPr>
          <a:xfrm>
            <a:off x="3246480" y="3657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3551400" y="282420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6751800" y="501480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2255760" y="512928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7726320" y="5680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5592600" y="57564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rc 2"/>
          <p:cNvSpPr/>
          <p:nvPr/>
        </p:nvSpPr>
        <p:spPr>
          <a:xfrm>
            <a:off x="1109520" y="3627360"/>
            <a:ext cx="1905120" cy="16765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</a:path>
              <a:path stroke="0" w="21600" h="21600">
                <a:moveTo>
                  <a:pt x="21599" y="19"/>
                </a:moveTo>
                <a:cubicBezTo>
                  <a:pt x="21588" y="11941"/>
                  <a:pt x="11921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rc 3"/>
          <p:cNvSpPr/>
          <p:nvPr/>
        </p:nvSpPr>
        <p:spPr>
          <a:xfrm>
            <a:off x="3019320" y="226044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</a:path>
              <a:path stroke="0" w="21600" h="21600">
                <a:moveTo>
                  <a:pt x="0" y="21525"/>
                </a:moveTo>
                <a:cubicBezTo>
                  <a:pt x="41" y="9634"/>
                  <a:pt x="9684" y="13"/>
                  <a:pt x="2157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rc 4"/>
          <p:cNvSpPr/>
          <p:nvPr/>
        </p:nvSpPr>
        <p:spPr>
          <a:xfrm>
            <a:off x="4386240" y="226224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1114560" y="5608800"/>
            <a:ext cx="65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6"/>
          <p:cNvSpPr/>
          <p:nvPr/>
        </p:nvSpPr>
        <p:spPr>
          <a:xfrm>
            <a:off x="1109520" y="530856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7662960" y="530856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386240" y="2260440"/>
            <a:ext cx="0" cy="33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9"/>
          <p:cNvSpPr/>
          <p:nvPr/>
        </p:nvSpPr>
        <p:spPr>
          <a:xfrm>
            <a:off x="5764320" y="3627360"/>
            <a:ext cx="1904760" cy="16765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0"/>
          <p:cNvSpPr/>
          <p:nvPr/>
        </p:nvSpPr>
        <p:spPr>
          <a:xfrm>
            <a:off x="5452920" y="279396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1"/>
          <p:cNvSpPr/>
          <p:nvPr/>
        </p:nvSpPr>
        <p:spPr>
          <a:xfrm>
            <a:off x="3014640" y="36273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3319560" y="279396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6529320" y="496584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2023920" y="511812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5148360" y="5608800"/>
                <a:ext cx="5698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6"/>
              <p:cNvSpPr txBox="1"/>
              <p:nvPr/>
            </p:nvSpPr>
            <p:spPr>
              <a:xfrm>
                <a:off x="7653240" y="5608800"/>
                <a:ext cx="579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7"/>
              <p:cNvSpPr txBox="1"/>
              <p:nvPr/>
            </p:nvSpPr>
            <p:spPr>
              <a:xfrm>
                <a:off x="4081320" y="5532480"/>
                <a:ext cx="722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ing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 Error of the Mea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 of the sampling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entral Limit Theorem</a:t>
            </a:r>
            <a:br>
              <a:rPr sz="4400"/>
            </a:b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tatistic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in a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computed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letters for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 Error of the Mea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571840" y="2732040"/>
                <a:ext cx="368280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graphicFrame>
        <p:nvGraphicFramePr>
          <p:cNvPr id="394" name="Object 3"/>
          <p:cNvGraphicFramePr/>
          <p:nvPr/>
        </p:nvGraphicFramePr>
        <p:xfrm>
          <a:off x="687240" y="1979640"/>
          <a:ext cx="774396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9640"/>
                    <a:ext cx="774396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arameter Estimate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interval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66680" y="3276720"/>
                <a:ext cx="8077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small sampling e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onfidence Interval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376200" y="3116160"/>
                <a:ext cx="8045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MALL SAMPLING ERROR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468440" y="2895480"/>
                <a:ext cx="56196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685800" y="2206800"/>
                <a:ext cx="716292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Estimating the Standard Error of the Mea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2428920" y="2793960"/>
                <a:ext cx="42926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185840" y="2300400"/>
                <a:ext cx="6348600" cy="27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21800" y="2883960"/>
            <a:ext cx="76964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Random Sampling Error and Sample Size are Related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Making Data Usab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t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of disp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ce (standard dev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tude of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4"/>
          <p:cNvGraphicFramePr/>
          <p:nvPr/>
        </p:nvGraphicFramePr>
        <p:xfrm>
          <a:off x="4648320" y="2498760"/>
          <a:ext cx="383040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98760"/>
                    <a:ext cx="383040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mula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3193920" y="2470320"/>
                <a:ext cx="279396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s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47200" y="512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mula - </a:t>
            </a:r>
            <a:r>
              <a:rPr b="0" lang="en-US" sz="3200" spc="-1" strike="noStrike">
                <a:solidFill>
                  <a:srgbClr val="cc3399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685800" y="2133720"/>
            <a:ext cx="7848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Suppose a survey researcher, studying expenditures on lipstick, wishes to have a 95 percent confident level (Z) and a range of error (E) of less than $2.00. The estimate of the standard deviation is $29.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1114560" y="2376360"/>
            <a:ext cx="7115040" cy="3699000"/>
            <a:chOff x="1114560" y="2376360"/>
            <a:chExt cx="7115040" cy="3699000"/>
          </a:xfrm>
        </p:grpSpPr>
        <mc:AlternateContent>
          <mc:Choice xmlns:a14="http://schemas.microsoft.com/office/drawing/2010/main" Requires="a14">
            <p:sp>
              <p:nvSpPr>
                <p:cNvPr id="416" name="Object 3"/>
                <p:cNvSpPr txBox="1"/>
                <p:nvPr/>
              </p:nvSpPr>
              <p:spPr>
                <a:xfrm>
                  <a:off x="1114560" y="2376360"/>
                  <a:ext cx="2236680" cy="17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s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4"/>
                <p:cNvSpPr txBox="1"/>
                <p:nvPr/>
              </p:nvSpPr>
              <p:spPr>
                <a:xfrm>
                  <a:off x="3524400" y="2376360"/>
                  <a:ext cx="4052880" cy="17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96</m:t>
                                      </m:r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9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5"/>
                <p:cNvSpPr txBox="1"/>
                <p:nvPr/>
              </p:nvSpPr>
              <p:spPr>
                <a:xfrm>
                  <a:off x="1539720" y="4370400"/>
                  <a:ext cx="2508480" cy="17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4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6"/>
                <p:cNvSpPr txBox="1"/>
                <p:nvPr/>
              </p:nvSpPr>
              <p:spPr>
                <a:xfrm>
                  <a:off x="4130640" y="4797360"/>
                  <a:ext cx="228780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7"/>
                <p:cNvSpPr txBox="1"/>
                <p:nvPr/>
              </p:nvSpPr>
              <p:spPr>
                <a:xfrm>
                  <a:off x="6869160" y="4883040"/>
                  <a:ext cx="136044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mula - Examp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85800" y="2133720"/>
            <a:ext cx="7848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Suppose, in the same example as the one before, the range of error (E) is acceptable at $4.00, sample size is re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mula - Examp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171440" y="2378160"/>
            <a:ext cx="6531120" cy="3754440"/>
            <a:chOff x="1171440" y="2378160"/>
            <a:chExt cx="6531120" cy="3754440"/>
          </a:xfrm>
        </p:grpSpPr>
        <mc:AlternateContent>
          <mc:Choice xmlns:a14="http://schemas.microsoft.com/office/drawing/2010/main" Requires="a14">
            <p:sp>
              <p:nvSpPr>
                <p:cNvPr id="425" name="Object 3"/>
                <p:cNvSpPr txBox="1"/>
                <p:nvPr/>
              </p:nvSpPr>
              <p:spPr>
                <a:xfrm>
                  <a:off x="1171440" y="2378160"/>
                  <a:ext cx="2048040" cy="17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s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Object 4"/>
                <p:cNvSpPr txBox="1"/>
                <p:nvPr/>
              </p:nvSpPr>
              <p:spPr>
                <a:xfrm>
                  <a:off x="3376440" y="2378160"/>
                  <a:ext cx="3710160" cy="17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96</m:t>
                                      </m:r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9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427" name="Group 5"/>
            <p:cNvGrpSpPr/>
            <p:nvPr/>
          </p:nvGrpSpPr>
          <p:grpSpPr>
            <a:xfrm>
              <a:off x="1560600" y="4402080"/>
              <a:ext cx="6141960" cy="1730520"/>
              <a:chOff x="1560600" y="4402080"/>
              <a:chExt cx="6141960" cy="1730520"/>
            </a:xfrm>
          </p:grpSpPr>
          <mc:AlternateContent>
            <mc:Choice xmlns:a14="http://schemas.microsoft.com/office/drawing/2010/main" Requires="a14">
              <p:sp>
                <p:nvSpPr>
                  <p:cNvPr id="428" name="Object 6"/>
                  <p:cNvSpPr txBox="1"/>
                  <p:nvPr/>
                </p:nvSpPr>
                <p:spPr>
                  <a:xfrm>
                    <a:off x="1560600" y="4402080"/>
                    <a:ext cx="2297160" cy="173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9" name="Object 7"/>
                  <p:cNvSpPr txBox="1"/>
                  <p:nvPr/>
                </p:nvSpPr>
                <p:spPr>
                  <a:xfrm>
                    <a:off x="3973680" y="4835520"/>
                    <a:ext cx="2008080" cy="90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0" name="Object 8"/>
                  <p:cNvSpPr txBox="1"/>
                  <p:nvPr/>
                </p:nvSpPr>
                <p:spPr>
                  <a:xfrm>
                    <a:off x="6421320" y="4923000"/>
                    <a:ext cx="12812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mula - Examp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276720" y="917640"/>
            <a:ext cx="253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366640" y="417600"/>
            <a:ext cx="419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Times New Roman"/>
              </a:rPr>
              <a:t>Calculating Samp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687960" y="1424160"/>
            <a:ext cx="7729200" cy="4384080"/>
            <a:chOff x="687960" y="1424160"/>
            <a:chExt cx="7729200" cy="4384080"/>
          </a:xfrm>
        </p:grpSpPr>
        <p:sp>
          <p:nvSpPr>
            <p:cNvPr id="435" name="Rectangle 5"/>
            <p:cNvSpPr/>
            <p:nvPr/>
          </p:nvSpPr>
          <p:spPr>
            <a:xfrm>
              <a:off x="1118160" y="4253040"/>
              <a:ext cx="20484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6"/>
            <p:cNvSpPr/>
            <p:nvPr/>
          </p:nvSpPr>
          <p:spPr>
            <a:xfrm>
              <a:off x="2688120" y="4253040"/>
              <a:ext cx="20484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7"/>
            <p:cNvGrpSpPr/>
            <p:nvPr/>
          </p:nvGrpSpPr>
          <p:grpSpPr>
            <a:xfrm>
              <a:off x="687960" y="5137200"/>
              <a:ext cx="1515600" cy="671040"/>
              <a:chOff x="687960" y="5137200"/>
              <a:chExt cx="1515600" cy="671040"/>
            </a:xfrm>
          </p:grpSpPr>
          <p:sp>
            <p:nvSpPr>
              <p:cNvPr id="438" name="Rectangle 8"/>
              <p:cNvSpPr/>
              <p:nvPr/>
            </p:nvSpPr>
            <p:spPr>
              <a:xfrm>
                <a:off x="1044720" y="5183280"/>
                <a:ext cx="11588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1389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9"/>
              <p:cNvSpPr/>
              <p:nvPr/>
            </p:nvSpPr>
            <p:spPr>
              <a:xfrm>
                <a:off x="687960" y="513720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687960" y="4398840"/>
              <a:ext cx="2447280" cy="712440"/>
              <a:chOff x="687960" y="4398840"/>
              <a:chExt cx="2447280" cy="712440"/>
            </a:xfrm>
          </p:grpSpPr>
          <p:sp>
            <p:nvSpPr>
              <p:cNvPr id="441" name="Rectangle 11"/>
              <p:cNvSpPr/>
              <p:nvPr/>
            </p:nvSpPr>
            <p:spPr>
              <a:xfrm>
                <a:off x="1850760" y="4486320"/>
                <a:ext cx="869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65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1740960" y="4486320"/>
                <a:ext cx="1454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13"/>
              <p:cNvSpPr/>
              <p:nvPr/>
            </p:nvSpPr>
            <p:spPr>
              <a:xfrm>
                <a:off x="1199880" y="448632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14"/>
              <p:cNvSpPr/>
              <p:nvPr/>
            </p:nvSpPr>
            <p:spPr>
              <a:xfrm>
                <a:off x="2965320" y="43988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687960" y="444024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6"/>
            <p:cNvGrpSpPr/>
            <p:nvPr/>
          </p:nvGrpSpPr>
          <p:grpSpPr>
            <a:xfrm>
              <a:off x="687960" y="2952720"/>
              <a:ext cx="2376000" cy="1380600"/>
              <a:chOff x="687960" y="2952720"/>
              <a:chExt cx="2376000" cy="1380600"/>
            </a:xfrm>
          </p:grpSpPr>
          <p:sp>
            <p:nvSpPr>
              <p:cNvPr id="447" name="Line 17"/>
              <p:cNvSpPr/>
              <p:nvPr/>
            </p:nvSpPr>
            <p:spPr>
              <a:xfrm>
                <a:off x="1333440" y="3641760"/>
                <a:ext cx="1228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1815480" y="368784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9"/>
              <p:cNvSpPr/>
              <p:nvPr/>
            </p:nvSpPr>
            <p:spPr>
              <a:xfrm>
                <a:off x="2000160" y="303372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20"/>
              <p:cNvSpPr/>
              <p:nvPr/>
            </p:nvSpPr>
            <p:spPr>
              <a:xfrm>
                <a:off x="1879200" y="3033720"/>
                <a:ext cx="1454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1"/>
              <p:cNvSpPr/>
              <p:nvPr/>
            </p:nvSpPr>
            <p:spPr>
              <a:xfrm>
                <a:off x="1339560" y="303372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22"/>
              <p:cNvSpPr/>
              <p:nvPr/>
            </p:nvSpPr>
            <p:spPr>
              <a:xfrm>
                <a:off x="2894040" y="2952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23"/>
              <p:cNvSpPr/>
              <p:nvPr/>
            </p:nvSpPr>
            <p:spPr>
              <a:xfrm>
                <a:off x="2650680" y="347328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2650680" y="370836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5"/>
              <p:cNvSpPr/>
              <p:nvPr/>
            </p:nvSpPr>
            <p:spPr>
              <a:xfrm>
                <a:off x="2652120" y="30193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26"/>
              <p:cNvSpPr/>
              <p:nvPr/>
            </p:nvSpPr>
            <p:spPr>
              <a:xfrm>
                <a:off x="1183680" y="347328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"/>
              <p:cNvSpPr/>
              <p:nvPr/>
            </p:nvSpPr>
            <p:spPr>
              <a:xfrm>
                <a:off x="1183680" y="370836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8"/>
              <p:cNvSpPr/>
              <p:nvPr/>
            </p:nvSpPr>
            <p:spPr>
              <a:xfrm>
                <a:off x="1183680" y="30193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29"/>
              <p:cNvSpPr/>
              <p:nvPr/>
            </p:nvSpPr>
            <p:spPr>
              <a:xfrm>
                <a:off x="687960" y="328140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30"/>
            <p:cNvGrpSpPr/>
            <p:nvPr/>
          </p:nvGrpSpPr>
          <p:grpSpPr>
            <a:xfrm>
              <a:off x="688320" y="1438200"/>
              <a:ext cx="3653640" cy="1406160"/>
              <a:chOff x="688320" y="1438200"/>
              <a:chExt cx="3653640" cy="1406160"/>
            </a:xfrm>
          </p:grpSpPr>
          <p:sp>
            <p:nvSpPr>
              <p:cNvPr id="461" name="Line 31"/>
              <p:cNvSpPr/>
              <p:nvPr/>
            </p:nvSpPr>
            <p:spPr>
              <a:xfrm>
                <a:off x="1689120" y="2195640"/>
                <a:ext cx="2135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32"/>
              <p:cNvSpPr/>
              <p:nvPr/>
            </p:nvSpPr>
            <p:spPr>
              <a:xfrm>
                <a:off x="2615760" y="219852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33"/>
              <p:cNvSpPr/>
              <p:nvPr/>
            </p:nvSpPr>
            <p:spPr>
              <a:xfrm>
                <a:off x="3644280" y="1549440"/>
                <a:ext cx="174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34"/>
              <p:cNvSpPr/>
              <p:nvPr/>
            </p:nvSpPr>
            <p:spPr>
              <a:xfrm>
                <a:off x="3101760" y="154944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35"/>
              <p:cNvSpPr/>
              <p:nvPr/>
            </p:nvSpPr>
            <p:spPr>
              <a:xfrm>
                <a:off x="2778840" y="1549440"/>
                <a:ext cx="3481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)(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6"/>
              <p:cNvSpPr/>
              <p:nvPr/>
            </p:nvSpPr>
            <p:spPr>
              <a:xfrm>
                <a:off x="2241360" y="154944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37"/>
              <p:cNvSpPr/>
              <p:nvPr/>
            </p:nvSpPr>
            <p:spPr>
              <a:xfrm>
                <a:off x="2120400" y="1549440"/>
                <a:ext cx="1454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38"/>
              <p:cNvSpPr/>
              <p:nvPr/>
            </p:nvSpPr>
            <p:spPr>
              <a:xfrm>
                <a:off x="1852200" y="154944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39"/>
              <p:cNvSpPr/>
              <p:nvPr/>
            </p:nvSpPr>
            <p:spPr>
              <a:xfrm>
                <a:off x="1688400" y="1549440"/>
                <a:ext cx="174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40"/>
              <p:cNvSpPr/>
              <p:nvPr/>
            </p:nvSpPr>
            <p:spPr>
              <a:xfrm>
                <a:off x="688320" y="183816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41"/>
              <p:cNvSpPr/>
              <p:nvPr/>
            </p:nvSpPr>
            <p:spPr>
              <a:xfrm>
                <a:off x="4172040" y="14382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42"/>
              <p:cNvSpPr/>
              <p:nvPr/>
            </p:nvSpPr>
            <p:spPr>
              <a:xfrm>
                <a:off x="3899880" y="19843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43"/>
              <p:cNvSpPr/>
              <p:nvPr/>
            </p:nvSpPr>
            <p:spPr>
              <a:xfrm>
                <a:off x="3899880" y="22194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44"/>
              <p:cNvSpPr/>
              <p:nvPr/>
            </p:nvSpPr>
            <p:spPr>
              <a:xfrm>
                <a:off x="3901680" y="15336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45"/>
              <p:cNvSpPr/>
              <p:nvPr/>
            </p:nvSpPr>
            <p:spPr>
              <a:xfrm>
                <a:off x="1531440" y="19843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6"/>
              <p:cNvSpPr/>
              <p:nvPr/>
            </p:nvSpPr>
            <p:spPr>
              <a:xfrm>
                <a:off x="1531440" y="22194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47"/>
              <p:cNvSpPr/>
              <p:nvPr/>
            </p:nvSpPr>
            <p:spPr>
              <a:xfrm>
                <a:off x="1532880" y="15336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48"/>
              <p:cNvSpPr/>
              <p:nvPr/>
            </p:nvSpPr>
            <p:spPr>
              <a:xfrm>
                <a:off x="1035720" y="179244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Rectangle 49"/>
            <p:cNvSpPr/>
            <p:nvPr/>
          </p:nvSpPr>
          <p:spPr>
            <a:xfrm>
              <a:off x="6960240" y="4192560"/>
              <a:ext cx="20484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50"/>
            <p:cNvGrpSpPr/>
            <p:nvPr/>
          </p:nvGrpSpPr>
          <p:grpSpPr>
            <a:xfrm>
              <a:off x="4763160" y="5122800"/>
              <a:ext cx="1371600" cy="671040"/>
              <a:chOff x="4763160" y="5122800"/>
              <a:chExt cx="1371600" cy="671040"/>
            </a:xfrm>
          </p:grpSpPr>
          <p:sp>
            <p:nvSpPr>
              <p:cNvPr id="481" name="Rectangle 51"/>
              <p:cNvSpPr/>
              <p:nvPr/>
            </p:nvSpPr>
            <p:spPr>
              <a:xfrm>
                <a:off x="5265360" y="5168880"/>
                <a:ext cx="869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347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52"/>
              <p:cNvSpPr/>
              <p:nvPr/>
            </p:nvSpPr>
            <p:spPr>
              <a:xfrm>
                <a:off x="4763160" y="512280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53"/>
            <p:cNvGrpSpPr/>
            <p:nvPr/>
          </p:nvGrpSpPr>
          <p:grpSpPr>
            <a:xfrm>
              <a:off x="4763160" y="4238640"/>
              <a:ext cx="2637720" cy="869040"/>
              <a:chOff x="4763160" y="4238640"/>
              <a:chExt cx="2637720" cy="869040"/>
            </a:xfrm>
          </p:grpSpPr>
          <p:sp>
            <p:nvSpPr>
              <p:cNvPr id="484" name="Rectangle 54"/>
              <p:cNvSpPr/>
              <p:nvPr/>
            </p:nvSpPr>
            <p:spPr>
              <a:xfrm>
                <a:off x="5193360" y="4238640"/>
                <a:ext cx="20484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</a:t>
                </a:r>
                <a:endParaRPr b="0" lang="en-US" sz="5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55"/>
              <p:cNvGrpSpPr/>
              <p:nvPr/>
            </p:nvGrpSpPr>
            <p:grpSpPr>
              <a:xfrm>
                <a:off x="4763160" y="4398840"/>
                <a:ext cx="2637720" cy="698040"/>
                <a:chOff x="4763160" y="4398840"/>
                <a:chExt cx="2637720" cy="698040"/>
              </a:xfrm>
            </p:grpSpPr>
            <p:sp>
              <p:nvSpPr>
                <p:cNvPr id="486" name="Rectangle 56"/>
                <p:cNvSpPr/>
                <p:nvPr/>
              </p:nvSpPr>
              <p:spPr>
                <a:xfrm>
                  <a:off x="5913360" y="4467240"/>
                  <a:ext cx="115884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100" spc="-1" strike="noStrike">
                      <a:solidFill>
                        <a:srgbClr val="000000"/>
                      </a:solidFill>
                      <a:latin typeface="Arial"/>
                    </a:rPr>
                    <a:t>6325</a:t>
                  </a:r>
                  <a:endParaRPr b="0" lang="en-US" sz="4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57"/>
                <p:cNvSpPr/>
                <p:nvPr/>
              </p:nvSpPr>
              <p:spPr>
                <a:xfrm>
                  <a:off x="5816160" y="4471920"/>
                  <a:ext cx="14544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1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4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Rectangle 58"/>
                <p:cNvSpPr/>
                <p:nvPr/>
              </p:nvSpPr>
              <p:spPr>
                <a:xfrm>
                  <a:off x="5276520" y="4471920"/>
                  <a:ext cx="57996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100" spc="-1" strike="noStrike">
                      <a:solidFill>
                        <a:srgbClr val="000000"/>
                      </a:solidFill>
                      <a:latin typeface="Arial"/>
                    </a:rPr>
                    <a:t>18</a:t>
                  </a:r>
                  <a:endParaRPr b="0" lang="en-US" sz="4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Rectangle 59"/>
                <p:cNvSpPr/>
                <p:nvPr/>
              </p:nvSpPr>
              <p:spPr>
                <a:xfrm>
                  <a:off x="7230960" y="4398840"/>
                  <a:ext cx="169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60"/>
                <p:cNvSpPr/>
                <p:nvPr/>
              </p:nvSpPr>
              <p:spPr>
                <a:xfrm>
                  <a:off x="4763160" y="4425840"/>
                  <a:ext cx="41508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4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" name="Group 61"/>
            <p:cNvGrpSpPr/>
            <p:nvPr/>
          </p:nvGrpSpPr>
          <p:grpSpPr>
            <a:xfrm>
              <a:off x="4763160" y="2938320"/>
              <a:ext cx="2370960" cy="1380600"/>
              <a:chOff x="4763160" y="2938320"/>
              <a:chExt cx="2370960" cy="1380600"/>
            </a:xfrm>
          </p:grpSpPr>
          <p:sp>
            <p:nvSpPr>
              <p:cNvPr id="492" name="Line 62"/>
              <p:cNvSpPr/>
              <p:nvPr/>
            </p:nvSpPr>
            <p:spPr>
              <a:xfrm>
                <a:off x="5410080" y="3627360"/>
                <a:ext cx="1227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5890680" y="367344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64"/>
              <p:cNvSpPr/>
              <p:nvPr/>
            </p:nvSpPr>
            <p:spPr>
              <a:xfrm>
                <a:off x="6075360" y="301932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65"/>
              <p:cNvSpPr/>
              <p:nvPr/>
            </p:nvSpPr>
            <p:spPr>
              <a:xfrm>
                <a:off x="5954400" y="3019320"/>
                <a:ext cx="1454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66"/>
              <p:cNvSpPr/>
              <p:nvPr/>
            </p:nvSpPr>
            <p:spPr>
              <a:xfrm>
                <a:off x="5413320" y="301932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7"/>
              <p:cNvSpPr/>
              <p:nvPr/>
            </p:nvSpPr>
            <p:spPr>
              <a:xfrm>
                <a:off x="6964200" y="29383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68"/>
              <p:cNvSpPr/>
              <p:nvPr/>
            </p:nvSpPr>
            <p:spPr>
              <a:xfrm>
                <a:off x="6722640" y="345924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69"/>
              <p:cNvSpPr/>
              <p:nvPr/>
            </p:nvSpPr>
            <p:spPr>
              <a:xfrm>
                <a:off x="6722640" y="369396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70"/>
              <p:cNvSpPr/>
              <p:nvPr/>
            </p:nvSpPr>
            <p:spPr>
              <a:xfrm>
                <a:off x="6722640" y="30067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71"/>
              <p:cNvSpPr/>
              <p:nvPr/>
            </p:nvSpPr>
            <p:spPr>
              <a:xfrm>
                <a:off x="5258880" y="345924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72"/>
              <p:cNvSpPr/>
              <p:nvPr/>
            </p:nvSpPr>
            <p:spPr>
              <a:xfrm>
                <a:off x="5258880" y="369396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73"/>
              <p:cNvSpPr/>
              <p:nvPr/>
            </p:nvSpPr>
            <p:spPr>
              <a:xfrm>
                <a:off x="5258880" y="30067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74"/>
              <p:cNvSpPr/>
              <p:nvPr/>
            </p:nvSpPr>
            <p:spPr>
              <a:xfrm>
                <a:off x="4763160" y="326700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75"/>
            <p:cNvGrpSpPr/>
            <p:nvPr/>
          </p:nvGrpSpPr>
          <p:grpSpPr>
            <a:xfrm>
              <a:off x="4763520" y="1424160"/>
              <a:ext cx="3653640" cy="1405800"/>
              <a:chOff x="4763520" y="1424160"/>
              <a:chExt cx="3653640" cy="1405800"/>
            </a:xfrm>
          </p:grpSpPr>
          <p:sp>
            <p:nvSpPr>
              <p:cNvPr id="506" name="Line 76"/>
              <p:cNvSpPr/>
              <p:nvPr/>
            </p:nvSpPr>
            <p:spPr>
              <a:xfrm>
                <a:off x="5765760" y="2181240"/>
                <a:ext cx="2135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77"/>
              <p:cNvSpPr/>
              <p:nvPr/>
            </p:nvSpPr>
            <p:spPr>
              <a:xfrm>
                <a:off x="6692400" y="218448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8"/>
              <p:cNvSpPr/>
              <p:nvPr/>
            </p:nvSpPr>
            <p:spPr>
              <a:xfrm>
                <a:off x="7720920" y="1535040"/>
                <a:ext cx="174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79"/>
              <p:cNvSpPr/>
              <p:nvPr/>
            </p:nvSpPr>
            <p:spPr>
              <a:xfrm>
                <a:off x="7176960" y="153504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0"/>
              <p:cNvSpPr/>
              <p:nvPr/>
            </p:nvSpPr>
            <p:spPr>
              <a:xfrm>
                <a:off x="6852240" y="1535040"/>
                <a:ext cx="3481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)(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81"/>
              <p:cNvSpPr/>
              <p:nvPr/>
            </p:nvSpPr>
            <p:spPr>
              <a:xfrm>
                <a:off x="6316560" y="1535040"/>
                <a:ext cx="579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82"/>
              <p:cNvSpPr/>
              <p:nvPr/>
            </p:nvSpPr>
            <p:spPr>
              <a:xfrm>
                <a:off x="6195600" y="1535040"/>
                <a:ext cx="1454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83"/>
              <p:cNvSpPr/>
              <p:nvPr/>
            </p:nvSpPr>
            <p:spPr>
              <a:xfrm>
                <a:off x="5927040" y="153504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84"/>
              <p:cNvSpPr/>
              <p:nvPr/>
            </p:nvSpPr>
            <p:spPr>
              <a:xfrm>
                <a:off x="5763600" y="1535040"/>
                <a:ext cx="174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85"/>
              <p:cNvSpPr/>
              <p:nvPr/>
            </p:nvSpPr>
            <p:spPr>
              <a:xfrm>
                <a:off x="4763520" y="182412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86"/>
              <p:cNvSpPr/>
              <p:nvPr/>
            </p:nvSpPr>
            <p:spPr>
              <a:xfrm>
                <a:off x="8247240" y="142416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87"/>
              <p:cNvSpPr/>
              <p:nvPr/>
            </p:nvSpPr>
            <p:spPr>
              <a:xfrm>
                <a:off x="7976880" y="19699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8"/>
              <p:cNvSpPr/>
              <p:nvPr/>
            </p:nvSpPr>
            <p:spPr>
              <a:xfrm>
                <a:off x="7976880" y="22050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89"/>
              <p:cNvSpPr/>
              <p:nvPr/>
            </p:nvSpPr>
            <p:spPr>
              <a:xfrm>
                <a:off x="7976880" y="15192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90"/>
              <p:cNvSpPr/>
              <p:nvPr/>
            </p:nvSpPr>
            <p:spPr>
              <a:xfrm>
                <a:off x="5608080" y="196992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1"/>
              <p:cNvSpPr/>
              <p:nvPr/>
            </p:nvSpPr>
            <p:spPr>
              <a:xfrm>
                <a:off x="5608080" y="22050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92"/>
              <p:cNvSpPr/>
              <p:nvPr/>
            </p:nvSpPr>
            <p:spPr>
              <a:xfrm>
                <a:off x="5608080" y="1519200"/>
                <a:ext cx="1468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93"/>
              <p:cNvSpPr/>
              <p:nvPr/>
            </p:nvSpPr>
            <p:spPr>
              <a:xfrm>
                <a:off x="5112360" y="1778040"/>
                <a:ext cx="4150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Line 94"/>
            <p:cNvSpPr/>
            <p:nvPr/>
          </p:nvSpPr>
          <p:spPr>
            <a:xfrm>
              <a:off x="4459320" y="1442880"/>
              <a:ext cx="0" cy="4264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5" name="Object 2"/>
              <p:cNvSpPr txBox="1"/>
              <p:nvPr/>
            </p:nvSpPr>
            <p:spPr>
              <a:xfrm>
                <a:off x="2441520" y="2197080"/>
                <a:ext cx="357840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tandard Error of the Propor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7" name="Object 2"/>
              <p:cNvSpPr txBox="1"/>
              <p:nvPr/>
            </p:nvSpPr>
            <p:spPr>
              <a:xfrm>
                <a:off x="3359160" y="3048120"/>
                <a:ext cx="24638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±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  <m:r>
                      <m:t xml:space="preserve">S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onfidence Interval for a Propor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9" name="Object 2"/>
              <p:cNvSpPr txBox="1"/>
              <p:nvPr/>
            </p:nvSpPr>
            <p:spPr>
              <a:xfrm>
                <a:off x="3168720" y="2584440"/>
                <a:ext cx="284472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for a Propor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26"/>
          <p:cNvSpPr/>
          <p:nvPr/>
        </p:nvSpPr>
        <p:spPr>
          <a:xfrm>
            <a:off x="608400" y="2514600"/>
            <a:ext cx="7045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(nu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king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 each r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27"/>
          <p:cNvSpPr/>
          <p:nvPr/>
        </p:nvSpPr>
        <p:spPr>
          <a:xfrm flipH="1">
            <a:off x="401760" y="3749760"/>
            <a:ext cx="738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8"/>
          <p:cNvSpPr/>
          <p:nvPr/>
        </p:nvSpPr>
        <p:spPr>
          <a:xfrm>
            <a:off x="456120" y="3962520"/>
            <a:ext cx="73494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3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,000 - $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5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,000 - $9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5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 - $1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7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8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Frequency Distribution of Deposit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3505320" y="762120"/>
            <a:ext cx="1454760" cy="964800"/>
            <a:chOff x="3505320" y="762120"/>
            <a:chExt cx="1454760" cy="964800"/>
          </a:xfrm>
        </p:grpSpPr>
        <p:sp>
          <p:nvSpPr>
            <p:cNvPr id="532" name="Line 3"/>
            <p:cNvSpPr/>
            <p:nvPr/>
          </p:nvSpPr>
          <p:spPr>
            <a:xfrm>
              <a:off x="4105440" y="1212840"/>
              <a:ext cx="760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4"/>
            <p:cNvSpPr/>
            <p:nvPr/>
          </p:nvSpPr>
          <p:spPr>
            <a:xfrm>
              <a:off x="4640400" y="123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"/>
            <p:cNvSpPr/>
            <p:nvPr/>
          </p:nvSpPr>
          <p:spPr>
            <a:xfrm>
              <a:off x="4416480" y="76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6"/>
            <p:cNvSpPr/>
            <p:nvPr/>
          </p:nvSpPr>
          <p:spPr>
            <a:xfrm>
              <a:off x="4352400" y="125424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7"/>
            <p:cNvSpPr/>
            <p:nvPr/>
          </p:nvSpPr>
          <p:spPr>
            <a:xfrm>
              <a:off x="4523400" y="770040"/>
              <a:ext cx="436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pq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8"/>
            <p:cNvSpPr/>
            <p:nvPr/>
          </p:nvSpPr>
          <p:spPr>
            <a:xfrm>
              <a:off x="4208400" y="77004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9"/>
            <p:cNvSpPr/>
            <p:nvPr/>
          </p:nvSpPr>
          <p:spPr>
            <a:xfrm>
              <a:off x="3505320" y="100188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>
              <a:off x="3782160" y="96696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Rectangle 11"/>
          <p:cNvSpPr/>
          <p:nvPr/>
        </p:nvSpPr>
        <p:spPr>
          <a:xfrm>
            <a:off x="609480" y="1820880"/>
            <a:ext cx="815364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Number of items in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quare of the confide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ndard error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Estimated proportion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(1-p) or estimated the proportion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quare of the maximum allowance for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he true proportion and sample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z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142280" y="460440"/>
            <a:ext cx="6716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alculating Sample Siz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at the 95% Confidenc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2093760" y="2631960"/>
            <a:ext cx="3886200" cy="2740680"/>
            <a:chOff x="2093760" y="2631960"/>
            <a:chExt cx="3886200" cy="2740680"/>
          </a:xfrm>
        </p:grpSpPr>
        <p:grpSp>
          <p:nvGrpSpPr>
            <p:cNvPr id="543" name="Group 4"/>
            <p:cNvGrpSpPr/>
            <p:nvPr/>
          </p:nvGrpSpPr>
          <p:grpSpPr>
            <a:xfrm>
              <a:off x="3931560" y="4997520"/>
              <a:ext cx="859680" cy="375120"/>
              <a:chOff x="3931560" y="4997520"/>
              <a:chExt cx="859680" cy="375120"/>
            </a:xfrm>
          </p:grpSpPr>
          <p:sp>
            <p:nvSpPr>
              <p:cNvPr id="544" name="Rectangle 5"/>
              <p:cNvSpPr/>
              <p:nvPr/>
            </p:nvSpPr>
            <p:spPr>
              <a:xfrm>
                <a:off x="4324320" y="503712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75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6"/>
              <p:cNvSpPr/>
              <p:nvPr/>
            </p:nvSpPr>
            <p:spPr>
              <a:xfrm>
                <a:off x="3931560" y="499752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7"/>
            <p:cNvGrpSpPr/>
            <p:nvPr/>
          </p:nvGrpSpPr>
          <p:grpSpPr>
            <a:xfrm>
              <a:off x="3931560" y="4260960"/>
              <a:ext cx="1489680" cy="730800"/>
              <a:chOff x="3931560" y="4260960"/>
              <a:chExt cx="1489680" cy="730800"/>
            </a:xfrm>
          </p:grpSpPr>
          <p:sp>
            <p:nvSpPr>
              <p:cNvPr id="547" name="Line 8"/>
              <p:cNvSpPr/>
              <p:nvPr/>
            </p:nvSpPr>
            <p:spPr>
              <a:xfrm>
                <a:off x="4405320" y="4656240"/>
                <a:ext cx="1015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9"/>
              <p:cNvSpPr/>
              <p:nvPr/>
            </p:nvSpPr>
            <p:spPr>
              <a:xfrm>
                <a:off x="4475880" y="4656240"/>
                <a:ext cx="933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00122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0"/>
              <p:cNvSpPr/>
              <p:nvPr/>
            </p:nvSpPr>
            <p:spPr>
              <a:xfrm>
                <a:off x="4379760" y="465624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11"/>
              <p:cNvSpPr/>
              <p:nvPr/>
            </p:nvSpPr>
            <p:spPr>
              <a:xfrm>
                <a:off x="4700520" y="426096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92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12"/>
              <p:cNvSpPr/>
              <p:nvPr/>
            </p:nvSpPr>
            <p:spPr>
              <a:xfrm>
                <a:off x="4613040" y="426096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13"/>
              <p:cNvSpPr/>
              <p:nvPr/>
            </p:nvSpPr>
            <p:spPr>
              <a:xfrm>
                <a:off x="3931560" y="441180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14"/>
            <p:cNvGrpSpPr/>
            <p:nvPr/>
          </p:nvGrpSpPr>
          <p:grpSpPr>
            <a:xfrm>
              <a:off x="3931560" y="3498840"/>
              <a:ext cx="2032560" cy="730800"/>
              <a:chOff x="3931560" y="3498840"/>
              <a:chExt cx="2032560" cy="730800"/>
            </a:xfrm>
          </p:grpSpPr>
          <p:sp>
            <p:nvSpPr>
              <p:cNvPr id="554" name="Line 15"/>
              <p:cNvSpPr/>
              <p:nvPr/>
            </p:nvSpPr>
            <p:spPr>
              <a:xfrm>
                <a:off x="4275000" y="3859200"/>
                <a:ext cx="163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6"/>
              <p:cNvSpPr/>
              <p:nvPr/>
            </p:nvSpPr>
            <p:spPr>
              <a:xfrm>
                <a:off x="4704480" y="3894120"/>
                <a:ext cx="933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00122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7"/>
              <p:cNvSpPr/>
              <p:nvPr/>
            </p:nvSpPr>
            <p:spPr>
              <a:xfrm>
                <a:off x="5870520" y="349884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8"/>
              <p:cNvSpPr/>
              <p:nvPr/>
            </p:nvSpPr>
            <p:spPr>
              <a:xfrm>
                <a:off x="5565600" y="34988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9"/>
              <p:cNvSpPr/>
              <p:nvPr/>
            </p:nvSpPr>
            <p:spPr>
              <a:xfrm>
                <a:off x="5292360" y="3498840"/>
                <a:ext cx="264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20"/>
              <p:cNvSpPr/>
              <p:nvPr/>
            </p:nvSpPr>
            <p:spPr>
              <a:xfrm>
                <a:off x="4680000" y="3498840"/>
                <a:ext cx="62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84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21"/>
              <p:cNvSpPr/>
              <p:nvPr/>
            </p:nvSpPr>
            <p:spPr>
              <a:xfrm>
                <a:off x="4589280" y="349884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22"/>
              <p:cNvSpPr/>
              <p:nvPr/>
            </p:nvSpPr>
            <p:spPr>
              <a:xfrm>
                <a:off x="4436640" y="349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23"/>
              <p:cNvSpPr/>
              <p:nvPr/>
            </p:nvSpPr>
            <p:spPr>
              <a:xfrm>
                <a:off x="4341960" y="349884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24"/>
              <p:cNvSpPr/>
              <p:nvPr/>
            </p:nvSpPr>
            <p:spPr>
              <a:xfrm>
                <a:off x="3931560" y="364968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5"/>
            <p:cNvGrpSpPr/>
            <p:nvPr/>
          </p:nvGrpSpPr>
          <p:grpSpPr>
            <a:xfrm>
              <a:off x="2093760" y="2631960"/>
              <a:ext cx="3886200" cy="788040"/>
              <a:chOff x="2093760" y="2631960"/>
              <a:chExt cx="3886200" cy="788040"/>
            </a:xfrm>
          </p:grpSpPr>
          <p:sp>
            <p:nvSpPr>
              <p:cNvPr id="565" name="Line 26"/>
              <p:cNvSpPr/>
              <p:nvPr/>
            </p:nvSpPr>
            <p:spPr>
              <a:xfrm flipH="1">
                <a:off x="4329000" y="3056040"/>
                <a:ext cx="1617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27"/>
              <p:cNvSpPr/>
              <p:nvPr/>
            </p:nvSpPr>
            <p:spPr>
              <a:xfrm flipH="1">
                <a:off x="5164200" y="305604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28"/>
              <p:cNvSpPr/>
              <p:nvPr/>
            </p:nvSpPr>
            <p:spPr>
              <a:xfrm flipH="1">
                <a:off x="4628880" y="305604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035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9"/>
              <p:cNvSpPr/>
              <p:nvPr/>
            </p:nvSpPr>
            <p:spPr>
              <a:xfrm flipH="1">
                <a:off x="4363200" y="3056040"/>
                <a:ext cx="249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30"/>
              <p:cNvSpPr/>
              <p:nvPr/>
            </p:nvSpPr>
            <p:spPr>
              <a:xfrm flipH="1">
                <a:off x="5886360" y="268596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1"/>
              <p:cNvSpPr/>
              <p:nvPr/>
            </p:nvSpPr>
            <p:spPr>
              <a:xfrm flipH="1">
                <a:off x="5667120" y="2685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flipH="1">
                <a:off x="5392440" y="2674800"/>
                <a:ext cx="264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33"/>
              <p:cNvSpPr/>
              <p:nvPr/>
            </p:nvSpPr>
            <p:spPr>
              <a:xfrm flipH="1">
                <a:off x="5241600" y="2685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34"/>
              <p:cNvSpPr/>
              <p:nvPr/>
            </p:nvSpPr>
            <p:spPr>
              <a:xfrm flipH="1">
                <a:off x="5052960" y="2685960"/>
                <a:ext cx="171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5"/>
              <p:cNvSpPr/>
              <p:nvPr/>
            </p:nvSpPr>
            <p:spPr>
              <a:xfrm flipH="1">
                <a:off x="4925520" y="268596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36"/>
              <p:cNvSpPr/>
              <p:nvPr/>
            </p:nvSpPr>
            <p:spPr>
              <a:xfrm flipH="1">
                <a:off x="4552560" y="267480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37"/>
              <p:cNvSpPr/>
              <p:nvPr/>
            </p:nvSpPr>
            <p:spPr>
              <a:xfrm flipH="1">
                <a:off x="4204800" y="2685960"/>
                <a:ext cx="389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1.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8"/>
              <p:cNvSpPr/>
              <p:nvPr/>
            </p:nvSpPr>
            <p:spPr>
              <a:xfrm flipH="1">
                <a:off x="4249800" y="2674800"/>
                <a:ext cx="93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39"/>
              <p:cNvSpPr/>
              <p:nvPr/>
            </p:nvSpPr>
            <p:spPr>
              <a:xfrm flipH="1">
                <a:off x="3774600" y="2862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40"/>
              <p:cNvSpPr/>
              <p:nvPr/>
            </p:nvSpPr>
            <p:spPr>
              <a:xfrm>
                <a:off x="2612880" y="30844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41"/>
              <p:cNvSpPr/>
              <p:nvPr/>
            </p:nvSpPr>
            <p:spPr>
              <a:xfrm>
                <a:off x="2531880" y="308448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42"/>
              <p:cNvSpPr/>
              <p:nvPr/>
            </p:nvSpPr>
            <p:spPr>
              <a:xfrm>
                <a:off x="2099880" y="30844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43"/>
              <p:cNvSpPr/>
              <p:nvPr/>
            </p:nvSpPr>
            <p:spPr>
              <a:xfrm>
                <a:off x="2612880" y="26607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44"/>
              <p:cNvSpPr/>
              <p:nvPr/>
            </p:nvSpPr>
            <p:spPr>
              <a:xfrm>
                <a:off x="2531880" y="2660760"/>
                <a:ext cx="7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45"/>
              <p:cNvSpPr/>
              <p:nvPr/>
            </p:nvSpPr>
            <p:spPr>
              <a:xfrm>
                <a:off x="2093760" y="26607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46"/>
              <p:cNvSpPr/>
              <p:nvPr/>
            </p:nvSpPr>
            <p:spPr>
              <a:xfrm flipH="1">
                <a:off x="5238720" y="30560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7"/>
              <p:cNvSpPr/>
              <p:nvPr/>
            </p:nvSpPr>
            <p:spPr>
              <a:xfrm flipH="1">
                <a:off x="4991040" y="2666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48"/>
              <p:cNvSpPr/>
              <p:nvPr/>
            </p:nvSpPr>
            <p:spPr>
              <a:xfrm flipH="1">
                <a:off x="3988800" y="283356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49"/>
              <p:cNvSpPr/>
              <p:nvPr/>
            </p:nvSpPr>
            <p:spPr>
              <a:xfrm>
                <a:off x="2309400" y="305604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50"/>
              <p:cNvSpPr/>
              <p:nvPr/>
            </p:nvSpPr>
            <p:spPr>
              <a:xfrm>
                <a:off x="2309400" y="2631960"/>
                <a:ext cx="22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038A2857-B480-44DF-8D62-AB14CF4AE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metrical, bell-shaped distribution (normal curve) that describes the expected probability distribution of many chance occur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ts values are with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± 3 standard deviations from its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Q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Norm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rely theoretical probability distribution that reflects a specific normal curve for the standardized valu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3275BC45-BD9D-43C9-BE9F-EAED7F7C1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 Distribution: Distribution of Intelligence Quotient (IQ) Score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594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638280" y="1079640"/>
            <a:ext cx="786744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6D5B360C-9E78-424C-8562-386B1CA7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-23004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 of a Standardized Norm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322560">
              <a:spcBef>
                <a:spcPts val="1225"/>
              </a:spcBef>
              <a:buClr>
                <a:srgbClr val="99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ymmetrical about its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322560">
              <a:spcBef>
                <a:spcPts val="1225"/>
              </a:spcBef>
              <a:buClr>
                <a:srgbClr val="99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 identifies the normal curve’s highest point (the mode) and the vertical line about which this normal curve is symmetr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322560">
              <a:spcBef>
                <a:spcPts val="1225"/>
              </a:spcBef>
              <a:buClr>
                <a:srgbClr val="99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rmal curve has an infinite number of cases (it is a continuous distribution), and the area under the curve has a probability density equal to 1.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322560">
              <a:spcBef>
                <a:spcPts val="1225"/>
              </a:spcBef>
              <a:buClr>
                <a:srgbClr val="99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ized normal distribution has a mean of 0 and a standard deviation of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686D4069-8539-411A-9928-48210E279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9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ized Normal Distribution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690480" y="1068480"/>
            <a:ext cx="776304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C3B1324E-1D67-4AAD-8066-FE53505D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The Normal Distribution (cont’d)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pare an individual value to the population mean in units of the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7"/>
          <p:cNvGrpSpPr/>
          <p:nvPr/>
        </p:nvGrpSpPr>
        <p:grpSpPr>
          <a:xfrm>
            <a:off x="969840" y="3336840"/>
            <a:ext cx="6437520" cy="2019240"/>
            <a:chOff x="969840" y="3336840"/>
            <a:chExt cx="6437520" cy="2019240"/>
          </a:xfrm>
        </p:grpSpPr>
        <p:pic>
          <p:nvPicPr>
            <p:cNvPr id="606" name="Picture 5" descr=""/>
            <p:cNvPicPr/>
            <p:nvPr/>
          </p:nvPicPr>
          <p:blipFill>
            <a:blip r:embed="rId1"/>
            <a:stretch/>
          </p:blipFill>
          <p:spPr>
            <a:xfrm>
              <a:off x="969840" y="4465800"/>
              <a:ext cx="560700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"/>
            <p:cNvPicPr/>
            <p:nvPr/>
          </p:nvPicPr>
          <p:blipFill>
            <a:blip r:embed="rId2"/>
            <a:stretch/>
          </p:blipFill>
          <p:spPr>
            <a:xfrm>
              <a:off x="1692360" y="3336840"/>
              <a:ext cx="5715000" cy="156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EDE0CDDC-730F-4066-8E1A-64BF99EF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10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ized Normal Table: Area under Half of the Normal Curv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10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685800" y="34894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under the segment of the normal curve extending (in one direction) from the mean to the point indicated by each row-column combination. For example, about 68 percent of normally distributed events can be expected to fall within 1.0 standard deviation on either side of the mean (0.34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. An interval of almost 2.0 standard deviations around the mean will include 95 percent of all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5" descr=""/>
          <p:cNvPicPr/>
          <p:nvPr/>
        </p:nvPicPr>
        <p:blipFill>
          <a:blip r:embed="rId1"/>
          <a:stretch/>
        </p:blipFill>
        <p:spPr>
          <a:xfrm>
            <a:off x="503280" y="1104840"/>
            <a:ext cx="813744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4E50BCD-67F6-4E9C-B859-7734F887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50440" y="512640"/>
            <a:ext cx="56674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11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Transformation of Any Normal Variable into a Standardized Normal Variable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15" name="Line 3"/>
          <p:cNvSpPr/>
          <p:nvPr/>
        </p:nvSpPr>
        <p:spPr>
          <a:xfrm>
            <a:off x="639720" y="1143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34880" y="6172200"/>
            <a:ext cx="43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Thomas H. Wonnacott and Ronald J. Wonnacott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Introductory Statistic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New York: John Wiley &amp; Sons, 1969), p. 70.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7" descr=""/>
          <p:cNvPicPr/>
          <p:nvPr/>
        </p:nvPicPr>
        <p:blipFill>
          <a:blip r:embed="rId1"/>
          <a:stretch/>
        </p:blipFill>
        <p:spPr>
          <a:xfrm>
            <a:off x="819000" y="1389240"/>
            <a:ext cx="7506000" cy="46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E82A854C-8E14-4FAC-AE77-53BE7EE78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2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ized Distribution Curve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20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5" descr=""/>
          <p:cNvPicPr/>
          <p:nvPr/>
        </p:nvPicPr>
        <p:blipFill>
          <a:blip r:embed="rId1"/>
          <a:stretch/>
        </p:blipFill>
        <p:spPr>
          <a:xfrm>
            <a:off x="681120" y="1073160"/>
            <a:ext cx="745632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143000" y="2666880"/>
            <a:ext cx="61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er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43000" y="3124080"/>
            <a:ext cx="62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3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,000 - $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,000 - $9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 - $1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239840" y="3063960"/>
            <a:ext cx="616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1181160"/>
            <a:ext cx="824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ercentage Distribution of Amounts of Deposit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E0E3FDEE-E9C4-4C57-8484-44A509A7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23440" y="456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opulation Distribution, Sample Distribution, and Sampling Distribution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080" y="1692360"/>
            <a:ext cx="810252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requency distribution of the elements of 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requency distribution of a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eoretical probability distribution of sample means for all possible samples of a certain size drawn from a particular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Error of the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andard deviation of the sampling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3424320" y="5622840"/>
            <a:ext cx="1330200" cy="7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53EE4EC4-A0E2-4117-9995-59D681A4B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Three Important Distribution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639720" y="1343160"/>
            <a:ext cx="7864560" cy="28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0DCEC8A6-7334-4055-8EC8-95EB442B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1"/>
          <a:stretch/>
        </p:blipFill>
        <p:spPr>
          <a:xfrm>
            <a:off x="1463760" y="525600"/>
            <a:ext cx="6216480" cy="58291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583320" y="512280"/>
            <a:ext cx="1828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13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Types of Distribution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7132680" y="1508040"/>
            <a:ext cx="12794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420840" y="6330960"/>
            <a:ext cx="799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Adapted from D. H. Sanders, A. F. Murphy, and R. J. Eng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tatistics: A Fresh Approach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New York: McGraw-Hill, 1980), p. 1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225E1A4-44A6-4E40-A7DF-9888360FA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entral-limit Theorem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-limit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ory that, as sample size increases, the distribution of sample means of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andomly selected, approaches a normal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AB6E7E36-0A9A-4EE6-9B6F-28B2A50BE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50800" y="512640"/>
            <a:ext cx="1643040" cy="17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4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 of Sample Means for Samples of Various Sizes and Population Distribution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639720" y="2239920"/>
            <a:ext cx="13716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2468520" y="411120"/>
            <a:ext cx="502920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4E7DA2DB-0A1F-4C08-BC28-D129049E2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5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pulation Distribution: Hypothetical Toy Expenditure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43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tretch/>
        </p:blipFill>
        <p:spPr>
          <a:xfrm>
            <a:off x="1666800" y="1235160"/>
            <a:ext cx="58104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8481526F-05EA-4EBE-BC74-C44B29221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6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ion of Population Mean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2057400" y="1038240"/>
            <a:ext cx="5029200" cy="47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8480C06B-0BB6-4548-913E-377BD26A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7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hmetic Means of Samples and Frequency Distribution of Sample Mean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639720" y="846000"/>
            <a:ext cx="78645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1095480" y="1050840"/>
            <a:ext cx="3019320" cy="5276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4846680" y="1143000"/>
            <a:ext cx="32288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8B6E2892-E210-4391-A103-F11A2483A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Estimation of Parameter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stimate of the population mean in the form of a single value, usually the sample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no information about the possible magnitude of random sampling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Interval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ed range of numbers within which a population mean is expected to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stimate of the population mean based on the knowledge that it will be equal to the sample mean plus or minus a small sampl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6EE3A97F-26A7-4F2A-982F-19EF3E0AF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Estimation of Parameter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centage or decimal value that tells how confident a researcher can be about being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tates the long-run percentage of confidence intervals that will include the true populatio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ux of the problem for a researcher is to determine how much random sampling error to tole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ly, researchers have used the 95% confidence level (a 5% tolerance for err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26"/>
          <p:cNvSpPr/>
          <p:nvPr/>
        </p:nvSpPr>
        <p:spPr>
          <a:xfrm>
            <a:off x="1203480" y="2660760"/>
            <a:ext cx="6340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27"/>
          <p:cNvSpPr/>
          <p:nvPr/>
        </p:nvSpPr>
        <p:spPr>
          <a:xfrm>
            <a:off x="1203480" y="3117960"/>
            <a:ext cx="62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3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,000 - $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5,000 - $9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 - $14,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28"/>
          <p:cNvSpPr/>
          <p:nvPr/>
        </p:nvSpPr>
        <p:spPr>
          <a:xfrm>
            <a:off x="1300320" y="3057480"/>
            <a:ext cx="616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29"/>
          <p:cNvSpPr/>
          <p:nvPr/>
        </p:nvSpPr>
        <p:spPr>
          <a:xfrm>
            <a:off x="355680" y="113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Probability Distribution of Amounts of Deposits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8DE7070D-D952-42D5-85B3-845AC208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alculating a Confidence Interval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1943280" y="1982880"/>
            <a:ext cx="5257800" cy="62856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"/>
          <p:cNvSpPr/>
          <p:nvPr/>
        </p:nvSpPr>
        <p:spPr>
          <a:xfrm>
            <a:off x="870120" y="2789280"/>
            <a:ext cx="74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on of the sampling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7" descr=""/>
          <p:cNvPicPr/>
          <p:nvPr/>
        </p:nvPicPr>
        <p:blipFill>
          <a:blip r:embed="rId2"/>
          <a:stretch/>
        </p:blipFill>
        <p:spPr>
          <a:xfrm>
            <a:off x="1986120" y="3354480"/>
            <a:ext cx="5171760" cy="7142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870120" y="1508040"/>
            <a:ext cx="74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location (value) of the population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9" descr=""/>
          <p:cNvPicPr/>
          <p:nvPr/>
        </p:nvPicPr>
        <p:blipFill>
          <a:blip r:embed="rId3"/>
          <a:stretch/>
        </p:blipFill>
        <p:spPr>
          <a:xfrm>
            <a:off x="2928960" y="5097600"/>
            <a:ext cx="3286080" cy="799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0" descr=""/>
          <p:cNvPicPr/>
          <p:nvPr/>
        </p:nvPicPr>
        <p:blipFill>
          <a:blip r:embed="rId4"/>
          <a:stretch/>
        </p:blipFill>
        <p:spPr>
          <a:xfrm>
            <a:off x="3129120" y="4251240"/>
            <a:ext cx="28857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37DF0F58-B6F0-41BF-91B0-CFDBC32B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Calculating a Confidence Interval (cont’d)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670" name="Picture 11" descr=""/>
          <p:cNvPicPr/>
          <p:nvPr/>
        </p:nvPicPr>
        <p:blipFill>
          <a:blip r:embed="rId1"/>
          <a:stretch/>
        </p:blipFill>
        <p:spPr>
          <a:xfrm>
            <a:off x="549360" y="1947960"/>
            <a:ext cx="795492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90A121B8-EA0E-4AB8-8137-3D04394C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rror and Samp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ampling error varies with samples of different si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in sample size reduce sampling error at a decreasing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ishing returns: random sampling error is inversely proportional to the square roo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CC991B3-2601-4C64-BB01-BE383DE8E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50440" y="512640"/>
            <a:ext cx="80247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9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stical Information Needed to Determine Sample Size for Questions Involving Means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76" name="Line 3"/>
          <p:cNvSpPr/>
          <p:nvPr/>
        </p:nvSpPr>
        <p:spPr>
          <a:xfrm>
            <a:off x="639720" y="1143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rcRect l="3269" t="0" r="3269" b="0"/>
          <a:stretch/>
        </p:blipFill>
        <p:spPr>
          <a:xfrm>
            <a:off x="717480" y="1380960"/>
            <a:ext cx="7682040" cy="23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41AE86C7-D2C3-49E2-B9E6-6F144B33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Factors of Concern in Choosing Sample Size</a:t>
            </a:r>
            <a:endParaRPr b="0" lang="en-US" sz="28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(or Heterogene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terogeneous population has more variance (a larger standard deviation) which will require a larger s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omogeneous population has less variance (a smaller standard deviation) which permits a smaller s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tude of Error (Confidence Interv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precise must the estimate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error will be toler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A5A5619F-AEF2-43A5-A6CD-422EF25B0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50440" y="512280"/>
            <a:ext cx="802476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62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HIBIT 17.18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ionship between Sample Size and Error</a:t>
            </a:r>
            <a:endParaRPr b="0" lang="en-US" sz="1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639720" y="846000"/>
            <a:ext cx="77724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2011320" y="1076400"/>
            <a:ext cx="5394240" cy="49132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5"/>
          <p:cNvSpPr/>
          <p:nvPr/>
        </p:nvSpPr>
        <p:spPr>
          <a:xfrm>
            <a:off x="457200" y="6033960"/>
            <a:ext cx="400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From Foundations of Behavioral Research 3rd edition by Kerlinger. © 1986. Reprinted with permission of Wadsworth, a division of Thomson Learning: www.thomsonrights.com. Fax 800-730-22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2461B8A4-BE12-4AFB-BE5F-4D88C1209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23440" y="228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Estimating Sample Size for Questions</a:t>
            </a:r>
            <a:br>
              <a:rPr sz="3200"/>
            </a:b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Involving Means</a:t>
            </a:r>
            <a:endParaRPr b="0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080" y="1112400"/>
            <a:ext cx="81025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tial 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ng a pilot study to estimate the population parameters so that another, larger sample of the appropriate sample size may be dra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sample si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914400" y="4089240"/>
            <a:ext cx="7983360" cy="2387520"/>
            <a:chOff x="914400" y="4089240"/>
            <a:chExt cx="7983360" cy="2387520"/>
          </a:xfrm>
        </p:grpSpPr>
        <p:pic>
          <p:nvPicPr>
            <p:cNvPr id="690" name="Picture 4" descr=""/>
            <p:cNvPicPr/>
            <p:nvPr/>
          </p:nvPicPr>
          <p:blipFill>
            <a:blip r:embed="rId1"/>
            <a:srcRect l="0" t="34447" r="0" b="0"/>
            <a:stretch/>
          </p:blipFill>
          <p:spPr>
            <a:xfrm>
              <a:off x="914400" y="4859280"/>
              <a:ext cx="7983360" cy="16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5" descr=""/>
            <p:cNvPicPr/>
            <p:nvPr/>
          </p:nvPicPr>
          <p:blipFill>
            <a:blip r:embed="rId2"/>
            <a:stretch/>
          </p:blipFill>
          <p:spPr>
            <a:xfrm>
              <a:off x="4024080" y="4089240"/>
              <a:ext cx="1644120" cy="101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1A5BE1EB-3AA6-47D7-A143-DCCDA15E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Sample Size Example</a:t>
            </a:r>
            <a:endParaRPr b="0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survey researcher, studying expenditures on lipstick, wishes to have a 95 percent confident leve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a range of err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less than $2.00. The estimate of the standard deviation is $29.00. What is the calculated sample siz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21" descr=""/>
          <p:cNvPicPr/>
          <p:nvPr/>
        </p:nvPicPr>
        <p:blipFill>
          <a:blip r:embed="rId1"/>
          <a:stretch/>
        </p:blipFill>
        <p:spPr>
          <a:xfrm>
            <a:off x="2152800" y="3124080"/>
            <a:ext cx="4836960" cy="25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CF1F8FFF-C2B2-4624-91F5-8FBC1273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Times New Roman"/>
              </a:rPr>
              <a:t>Sample Size Example</a:t>
            </a:r>
            <a:endParaRPr b="0" lang="en-US" sz="44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080" y="1569600"/>
            <a:ext cx="8102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, in the same example as the one before, the range of err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cceptable at $4.00. Sample size is re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7" descr=""/>
          <p:cNvPicPr/>
          <p:nvPr/>
        </p:nvPicPr>
        <p:blipFill>
          <a:blip r:embed="rId1"/>
          <a:stretch/>
        </p:blipFill>
        <p:spPr>
          <a:xfrm>
            <a:off x="2286000" y="3063960"/>
            <a:ext cx="4572000" cy="23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–</a:t>
            </a:r>
            <a:fld id="{D3A50472-218E-4F84-A906-783676EC4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23440" y="456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alculating Sample Size at the 99 Percent Confidence Level</a:t>
            </a:r>
            <a:endParaRPr b="0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1203480" y="1905120"/>
            <a:ext cx="656892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5:36:24Z</dcterms:created>
  <dc:creator>zikmund</dc:creator>
  <dc:description/>
  <dc:language>en-US</dc:language>
  <cp:lastModifiedBy>hAMID ALI SHAH</cp:lastModifiedBy>
  <dcterms:modified xsi:type="dcterms:W3CDTF">2016-03-11T05:32:43Z</dcterms:modified>
  <cp:revision>38</cp:revision>
  <dc:subject>Chapter 17</dc:subject>
  <dc:title>Business Research Methods  William G. Zikmund </dc:title>
</cp:coreProperties>
</file>