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065-D5E5-40D2-827A-E369BC29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D5A-6956-455C-BAAC-A7A6C73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74F-99E7-420B-84C9-F616F74B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84D-93CE-412B-A91B-94369389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7AC-7A4F-4337-9C6F-BDF0CCF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110-D252-486A-B35B-9E3D2696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787-9412-4DA3-8A3F-13FA9B8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79C-A7E0-4524-9268-E84DED8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6D2-A939-40CD-BC6C-95791AF5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B1B-2195-45D7-AC99-9343B25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429-6F68-4560-B5CE-84D3EBD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962-BBE8-40A7-873B-07156BF3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8D8-B583-458E-AE95-AE3F77D3D46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9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iting and Co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209680"/>
            <a:ext cx="79405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a.  How many years have you been playing tennis on a regular basis?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umber of years: 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.  What is your level of play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ovice . . . . . . . . . . .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dvanced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wer Intermediate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xpert   . .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Upper Intermediate .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eaching Pro 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.  In the last 12 months, has your level of play improved, remained th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or decreased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mproved. . . . . . .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creased. . .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mained the same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7280" y="368784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27280" y="399240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7280" y="429732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37520" y="3687840"/>
            <a:ext cx="74916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37520" y="3992400"/>
            <a:ext cx="74916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37520" y="4297320"/>
            <a:ext cx="74916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27280" y="559260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27280" y="589752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37520" y="5592600"/>
            <a:ext cx="74916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5520" y="1042920"/>
            <a:ext cx="815112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2a.  Do you belong to a club with tennis facilities?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es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-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o 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-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.  How many people in your household - including yourself - play tennis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umber who play tennis ___________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3a.  Why do you play tennis? (Please “X” all that apply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have fun . . . . . .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stay fit.  . . . . . . .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be with friends. . . . . 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improve my game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compete. . . .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win. . . . . . . .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.  In the past 12 months, have you purchased any tennis instructional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ooks  or video tapes?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es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-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o  . . . . . . 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-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73960" y="1149480"/>
            <a:ext cx="749160" cy="2156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73960" y="1454040"/>
            <a:ext cx="74916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7240" y="328284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7240" y="358776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7240" y="3892680"/>
            <a:ext cx="749520" cy="2156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419724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7240" y="4502160"/>
            <a:ext cx="74952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7240" y="4807080"/>
            <a:ext cx="749520" cy="2156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9560" y="5568840"/>
            <a:ext cx="74916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9560" y="5873760"/>
            <a:ext cx="749160" cy="2160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5840" y="1806480"/>
            <a:ext cx="845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.  Please rate each of the following with regard to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thi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flight, if applic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66400" y="2233440"/>
            <a:ext cx="36320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xcellent   Good    Fair    Po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           2         3     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743200"/>
            <a:ext cx="3978360" cy="3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urtesy and Treatment from th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kycap at airport . . . . . . . . . . . . . .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rport Ticket Counter Agent . . . . 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oarding Point (Gate) Agent . . . . 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Flight Attendants . . . . . . . . . . . . . 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our Meal or Snack. . . . . . . . . . . . 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everage Service . . . . . . . . . . . . . 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at Comfort. . . . . . . . . . . . . . . . . 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arry-On Stowage Space. . . . . . . 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abin Cleanliness  . . . . . . . . . . . . 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ideo/Stereo Entertainment . . . . . 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n-Time Departure  . . . . . . . . . . . 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27480" y="58975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7480" y="5592600"/>
            <a:ext cx="44460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32600" y="31543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94520" y="31543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27480" y="31543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94720" y="31543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27480" y="34592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27480" y="3763800"/>
            <a:ext cx="44460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27480" y="40687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27480" y="43736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27480" y="4678200"/>
            <a:ext cx="44460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27480" y="49831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27480" y="52880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27480" y="62024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94520" y="58975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94520" y="5592600"/>
            <a:ext cx="44424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4520" y="34592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4520" y="3763800"/>
            <a:ext cx="44424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94520" y="40687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4520" y="43736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94520" y="4678200"/>
            <a:ext cx="44424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4520" y="49831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4520" y="52880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94520" y="62024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32600" y="58975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32600" y="5592600"/>
            <a:ext cx="44460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2600" y="34592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2600" y="3763800"/>
            <a:ext cx="44460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2600" y="40687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3736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32600" y="4678200"/>
            <a:ext cx="44460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32600" y="498312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32600" y="52880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32600" y="6202440"/>
            <a:ext cx="44460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94720" y="58975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4720" y="5592600"/>
            <a:ext cx="44424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94720" y="34592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94720" y="3763800"/>
            <a:ext cx="44424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94720" y="40687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94720" y="43736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94720" y="4678200"/>
            <a:ext cx="444240" cy="1400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94720" y="498312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94720" y="52880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94720" y="6202440"/>
            <a:ext cx="444240" cy="13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 believe that people judge your success by the kind of car you drive.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ongly agree       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ldly agree          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ither agre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 disagree            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ldly agree          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ongly disagree   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ongly agree       +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ldly agree          +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ither agre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 disagree              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ldly agree          -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ongly disagree   -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les for Co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tegories should be exhaus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tegories should be mutually exclusive and independ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521160" cy="35211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ing Open-Ended Respon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B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entifies each vari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s a variable’s descrip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entifies each code name and position on storage med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Ent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cess of transforming data from the research project to comput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tical scanning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rked-sensed questionnai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ding is the process of using a computer to convert original cods used for raw data to codes that are more suitable for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1 = 8 - Var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ror Checking and Ver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clea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8240" y="4718160"/>
            <a:ext cx="3880080" cy="1377720"/>
            <a:chOff x="768240" y="4718160"/>
            <a:chExt cx="3880080" cy="1377720"/>
          </a:xfrm>
        </p:grpSpPr>
        <p:sp>
          <p:nvSpPr>
            <p:cNvPr id="44" name=""/>
            <p:cNvSpPr/>
            <p:nvPr/>
          </p:nvSpPr>
          <p:spPr>
            <a:xfrm>
              <a:off x="2708280" y="4718160"/>
              <a:ext cx="1440" cy="547560"/>
            </a:xfrm>
            <a:custGeom>
              <a:avLst/>
              <a:gdLst/>
              <a:ahLst/>
              <a:rect l="l" t="t" r="r" b="b"/>
              <a:pathLst>
                <a:path w="1" h="345">
                  <a:moveTo>
                    <a:pt x="0" y="0"/>
                  </a:moveTo>
                  <a:lnTo>
                    <a:pt x="0" y="344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8240" y="5264280"/>
              <a:ext cx="3880080" cy="83160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1e79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DATA ANALYSI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4645080" y="3165480"/>
            <a:ext cx="1001520" cy="754200"/>
          </a:xfrm>
          <a:custGeom>
            <a:avLst/>
            <a:gdLst/>
            <a:ahLst/>
            <a:rect l="l" t="t" r="r" b="b"/>
            <a:pathLst>
              <a:path w="631" h="475">
                <a:moveTo>
                  <a:pt x="0" y="0"/>
                </a:moveTo>
                <a:lnTo>
                  <a:pt x="630" y="474"/>
                </a:lnTo>
              </a:path>
            </a:pathLst>
          </a:custGeom>
          <a:noFill/>
          <a:ln cap="rnd" w="25560">
            <a:solidFill>
              <a:srgbClr val="ffffcc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2120" y="3581280"/>
            <a:ext cx="4884480" cy="1136880"/>
            <a:chOff x="762120" y="3581280"/>
            <a:chExt cx="4884480" cy="1136880"/>
          </a:xfrm>
        </p:grpSpPr>
        <p:grpSp>
          <p:nvGrpSpPr>
            <p:cNvPr id="48" name=""/>
            <p:cNvGrpSpPr/>
            <p:nvPr/>
          </p:nvGrpSpPr>
          <p:grpSpPr>
            <a:xfrm>
              <a:off x="762120" y="3581280"/>
              <a:ext cx="3873240" cy="1136880"/>
              <a:chOff x="762120" y="3581280"/>
              <a:chExt cx="3873240" cy="1136880"/>
            </a:xfrm>
          </p:grpSpPr>
          <p:sp>
            <p:nvSpPr>
              <p:cNvPr id="49" name=""/>
              <p:cNvSpPr/>
              <p:nvPr/>
            </p:nvSpPr>
            <p:spPr>
              <a:xfrm>
                <a:off x="2698920" y="3581280"/>
                <a:ext cx="1440" cy="611280"/>
              </a:xfrm>
              <a:custGeom>
                <a:avLst/>
                <a:gdLst/>
                <a:ahLst/>
                <a:rect l="l" t="t" r="r" b="b"/>
                <a:pathLst>
                  <a:path w="1" h="385">
                    <a:moveTo>
                      <a:pt x="0" y="0"/>
                    </a:move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ffffcc"/>
                </a:solidFill>
                <a:round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2120" y="4191120"/>
                <a:ext cx="3873240" cy="527040"/>
              </a:xfrm>
              <a:prstGeom prst="rect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5be4"/>
                  </a:gs>
                </a:gsLst>
                <a:lin ang="5400000"/>
              </a:gra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Arial Rounded MT Bold"/>
                  </a:rPr>
                  <a:t>DATA ENTR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645080" y="3917880"/>
              <a:ext cx="1001520" cy="538200"/>
            </a:xfrm>
            <a:custGeom>
              <a:avLst/>
              <a:gdLst/>
              <a:ahLst/>
              <a:rect l="l" t="t" r="r" b="b"/>
              <a:pathLst>
                <a:path w="631" h="339">
                  <a:moveTo>
                    <a:pt x="630" y="0"/>
                  </a:moveTo>
                  <a:lnTo>
                    <a:pt x="0" y="338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645160" y="2514600"/>
            <a:ext cx="2806560" cy="280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26120" y="2963880"/>
            <a:ext cx="184464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ERR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CHE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VER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71480" y="2203560"/>
            <a:ext cx="3873600" cy="1377720"/>
            <a:chOff x="771480" y="2203560"/>
            <a:chExt cx="3873600" cy="1377720"/>
          </a:xfrm>
        </p:grpSpPr>
        <p:sp>
          <p:nvSpPr>
            <p:cNvPr id="55" name=""/>
            <p:cNvSpPr/>
            <p:nvPr/>
          </p:nvSpPr>
          <p:spPr>
            <a:xfrm>
              <a:off x="2708280" y="2203560"/>
              <a:ext cx="1440" cy="547560"/>
            </a:xfrm>
            <a:custGeom>
              <a:avLst/>
              <a:gdLst/>
              <a:ahLst/>
              <a:rect l="l" t="t" r="r" b="b"/>
              <a:pathLst>
                <a:path w="1" h="345">
                  <a:moveTo>
                    <a:pt x="0" y="0"/>
                  </a:moveTo>
                  <a:lnTo>
                    <a:pt x="0" y="344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480" y="2749680"/>
              <a:ext cx="3873600" cy="8316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5b88e4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CODIN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71480" y="1676520"/>
            <a:ext cx="3873600" cy="5270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8888e4"/>
              </a:gs>
            </a:gsLst>
            <a:lin ang="5400000"/>
          </a:gra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0120" y="1728720"/>
            <a:ext cx="3676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EDI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5080" y="1940040"/>
            <a:ext cx="1001520" cy="1979640"/>
          </a:xfrm>
          <a:custGeom>
            <a:avLst/>
            <a:gdLst/>
            <a:ahLst/>
            <a:rect l="l" t="t" r="r" b="b"/>
            <a:pathLst>
              <a:path w="631" h="1247">
                <a:moveTo>
                  <a:pt x="0" y="0"/>
                </a:moveTo>
                <a:lnTo>
                  <a:pt x="630" y="1246"/>
                </a:lnTo>
              </a:path>
            </a:pathLst>
          </a:custGeom>
          <a:noFill/>
          <a:ln cap="rnd" w="12600">
            <a:solidFill>
              <a:srgbClr val="ffff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917880"/>
            <a:ext cx="998280" cy="1763640"/>
          </a:xfrm>
          <a:custGeom>
            <a:avLst/>
            <a:gdLst/>
            <a:ahLst/>
            <a:rect l="l" t="t" r="r" b="b"/>
            <a:pathLst>
              <a:path w="629" h="1111">
                <a:moveTo>
                  <a:pt x="0" y="1110"/>
                </a:moveTo>
                <a:lnTo>
                  <a:pt x="628" y="0"/>
                </a:lnTo>
              </a:path>
            </a:pathLst>
          </a:custGeom>
          <a:noFill/>
          <a:ln cap="rnd" w="12600">
            <a:solidFill>
              <a:srgbClr val="ffff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ges of Data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158920" cy="1839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cess of checking and adjusting th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omiss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legi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consist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readying them for coding and stor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rth Year Recorded by Intervie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76480" y="2057400"/>
            <a:ext cx="2854080" cy="4140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73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73 more like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3962520"/>
            <a:ext cx="2646360" cy="2235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cess of identifying and assigning a numerical score or other character symbol to previously edited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36480" y="2195640"/>
          <a:ext cx="388476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195640"/>
                    <a:ext cx="388476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50840" y="4191120"/>
            <a:ext cx="21938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-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600200"/>
            <a:ext cx="311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ELD EDI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1509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3520" y="2514600"/>
          <a:ext cx="8026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26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01760" y="4543560"/>
            <a:ext cx="238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2160" y="4559400"/>
            <a:ext cx="2957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LET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20240" y="4467240"/>
            <a:ext cx="1939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STION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NSWER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 OF ORD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9080" y="63324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asons for Edit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938240" cy="4140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Don’t Know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gitimate don’t 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uctant don’t 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used don’t 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ules for interpreting, classifying, and recording data in the coding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ctual numerical or other character symb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5:40:55Z</dcterms:created>
  <dc:creator>zikmund</dc:creator>
  <dc:description/>
  <dc:language>en-US</dc:language>
  <cp:lastModifiedBy>zikmund</cp:lastModifiedBy>
  <dcterms:modified xsi:type="dcterms:W3CDTF">2002-01-25T14:41:13Z</dcterms:modified>
  <cp:revision>2</cp:revision>
  <dc:subject>Chapter 19</dc:subject>
  <dc:title>Business  Research Methods  William G. Zikmund </dc:title>
</cp:coreProperties>
</file>