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BAEC0-B452-4EE4-91E3-1BF1C01F3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C64BA-F986-4286-AF26-778FE350A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A597F-8FFD-406A-81B5-565B91BCD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37466-2C38-4CD8-9FBD-84623A1B5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FF22F-6168-42CA-A7DF-E573CC24D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78D9D-DE3A-4EE6-8E7E-C2F5F8BA0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810B6-CC9D-483F-AF6A-E9559D6CF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5E64C-C4F0-49D4-A208-2CBDD8589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50FAE-5104-4BFD-B530-3DA1B4FCC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E3E65-0F6B-4088-A8AF-4CF90CD49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2FB94-D8E0-4C97-8BF8-9E1218568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9B3DA-AD4A-463F-904D-CE82DB1C7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874D3-DB89-4D47-9535-6676EACFE6BF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Business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 Research Methods</a:t>
            </a:r>
            <a:br>
              <a:rPr sz="4400"/>
            </a:br>
            <a:br>
              <a:rPr sz="4400"/>
            </a:b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William G. Zikmund</a:t>
            </a:r>
            <a:br>
              <a:rPr sz="2800"/>
            </a:b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hapter 18: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eldwork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erminating the Interview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How to close interview and exit household is importan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Reinterviewing may be require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Fieldwork Managemen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685800" y="2097000"/>
            <a:ext cx="3848040" cy="407196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lect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rai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upervis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ontro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4191120" y="3124080"/>
            <a:ext cx="4152960" cy="285768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Interviewer Cheating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lling in fake answers or falsifying interview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Verification by reinterview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Fieldworker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666880" y="2133720"/>
            <a:ext cx="3567240" cy="345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Who Conducts Fieldwork?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8240" y="3435480"/>
            <a:ext cx="1892520" cy="1282680"/>
          </a:xfrm>
          <a:prstGeom prst="rect">
            <a:avLst/>
          </a:prstGeom>
          <a:solidFill>
            <a:srgbClr val="009999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39160" y="3657600"/>
            <a:ext cx="1774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FIELD-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WORKER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197240" y="2063880"/>
            <a:ext cx="3873600" cy="2044440"/>
          </a:xfrm>
          <a:prstGeom prst="rect">
            <a:avLst/>
          </a:prstGeom>
          <a:solidFill>
            <a:srgbClr val="f76681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496040" y="2590920"/>
            <a:ext cx="33840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FIELD INTERVIEWING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SERVIC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197240" y="4349880"/>
            <a:ext cx="3873600" cy="2044440"/>
          </a:xfrm>
          <a:prstGeom prst="rect">
            <a:avLst/>
          </a:prstGeom>
          <a:solidFill>
            <a:srgbClr val="b760f9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496400" y="4800600"/>
            <a:ext cx="338796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IN-HOUS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INTERVIEWER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BRIEFING SESSION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671920" y="4038480"/>
            <a:ext cx="604800" cy="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76720" y="2976480"/>
            <a:ext cx="0" cy="220500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81400" y="2971800"/>
            <a:ext cx="604800" cy="0"/>
          </a:xfrm>
          <a:prstGeom prst="line">
            <a:avLst/>
          </a:prstGeom>
          <a:ln w="12600">
            <a:solidFill>
              <a:srgbClr val="ffff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281400" y="5181480"/>
            <a:ext cx="604800" cy="0"/>
          </a:xfrm>
          <a:prstGeom prst="line">
            <a:avLst/>
          </a:prstGeom>
          <a:ln w="12600">
            <a:solidFill>
              <a:srgbClr val="ffff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In-House Training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692280" y="2139840"/>
            <a:ext cx="2501640" cy="2197080"/>
            <a:chOff x="692280" y="2139840"/>
            <a:chExt cx="2501640" cy="2197080"/>
          </a:xfrm>
        </p:grpSpPr>
        <p:sp>
          <p:nvSpPr>
            <p:cNvPr id="58" name=""/>
            <p:cNvSpPr/>
            <p:nvPr/>
          </p:nvSpPr>
          <p:spPr>
            <a:xfrm>
              <a:off x="692280" y="2139840"/>
              <a:ext cx="2501640" cy="2197080"/>
            </a:xfrm>
            <a:custGeom>
              <a:avLst/>
              <a:gdLst>
                <a:gd name="textAreaLeft" fmla="*/ 570960 w 2501640"/>
                <a:gd name="textAreaRight" fmla="*/ 1930680 w 2501640"/>
                <a:gd name="textAreaTop" fmla="*/ 501480 h 2197080"/>
                <a:gd name="textAreaBottom" fmla="*/ 1695600 h 2197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9999"/>
            </a:solidFill>
            <a:ln w="12600">
              <a:solidFill>
                <a:srgbClr val="ffffcc"/>
              </a:solidFill>
              <a:miter/>
            </a:ln>
            <a:effectLst>
              <a:outerShdw dist="107932" dir="2700000" blurRad="0" rotWithShape="0">
                <a:srgbClr val="5f5f5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440" y="2955960"/>
              <a:ext cx="217836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MAKING INITIAL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CONTACT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3435480" y="2749680"/>
            <a:ext cx="2501640" cy="2197080"/>
            <a:chOff x="3435480" y="2749680"/>
            <a:chExt cx="2501640" cy="2197080"/>
          </a:xfrm>
        </p:grpSpPr>
        <p:sp>
          <p:nvSpPr>
            <p:cNvPr id="61" name=""/>
            <p:cNvSpPr/>
            <p:nvPr/>
          </p:nvSpPr>
          <p:spPr>
            <a:xfrm>
              <a:off x="3435480" y="2749680"/>
              <a:ext cx="2501640" cy="2197080"/>
            </a:xfrm>
            <a:custGeom>
              <a:avLst/>
              <a:gdLst>
                <a:gd name="textAreaLeft" fmla="*/ 570960 w 2501640"/>
                <a:gd name="textAreaRight" fmla="*/ 1930680 w 2501640"/>
                <a:gd name="textAreaTop" fmla="*/ 501480 h 2197080"/>
                <a:gd name="textAreaBottom" fmla="*/ 1695600 h 2197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9933"/>
            </a:solidFill>
            <a:ln w="12600">
              <a:solidFill>
                <a:srgbClr val="ffffcc"/>
              </a:solidFill>
              <a:miter/>
            </a:ln>
            <a:effectLst>
              <a:outerShdw dist="107932" dir="2700000" blurRad="0" rotWithShape="0">
                <a:srgbClr val="5f5f5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960720" y="3733920"/>
              <a:ext cx="13737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PROBING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6026040" y="2139840"/>
            <a:ext cx="2502000" cy="2197080"/>
            <a:chOff x="6026040" y="2139840"/>
            <a:chExt cx="2502000" cy="2197080"/>
          </a:xfrm>
        </p:grpSpPr>
        <p:sp>
          <p:nvSpPr>
            <p:cNvPr id="64" name=""/>
            <p:cNvSpPr/>
            <p:nvPr/>
          </p:nvSpPr>
          <p:spPr>
            <a:xfrm>
              <a:off x="6026040" y="2139840"/>
              <a:ext cx="2502000" cy="2197080"/>
            </a:xfrm>
            <a:custGeom>
              <a:avLst/>
              <a:gdLst>
                <a:gd name="textAreaLeft" fmla="*/ 570960 w 2502000"/>
                <a:gd name="textAreaRight" fmla="*/ 1931040 w 2502000"/>
                <a:gd name="textAreaTop" fmla="*/ 501480 h 2197080"/>
                <a:gd name="textAreaBottom" fmla="*/ 1695600 h 2197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990099"/>
            </a:solidFill>
            <a:ln w="12600">
              <a:solidFill>
                <a:srgbClr val="ffffcc"/>
              </a:solidFill>
              <a:miter/>
            </a:ln>
            <a:effectLst>
              <a:outerShdw dist="107932" dir="2700000" blurRad="0" rotWithShape="0">
                <a:srgbClr val="5f5f5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399360" y="2879640"/>
              <a:ext cx="181260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RECORDING 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RESPONSES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1682640" y="4273560"/>
            <a:ext cx="2502000" cy="2197080"/>
            <a:chOff x="1682640" y="4273560"/>
            <a:chExt cx="2502000" cy="2197080"/>
          </a:xfrm>
        </p:grpSpPr>
        <p:sp>
          <p:nvSpPr>
            <p:cNvPr id="67" name=""/>
            <p:cNvSpPr/>
            <p:nvPr/>
          </p:nvSpPr>
          <p:spPr>
            <a:xfrm>
              <a:off x="1682640" y="4273560"/>
              <a:ext cx="2502000" cy="2197080"/>
            </a:xfrm>
            <a:custGeom>
              <a:avLst/>
              <a:gdLst>
                <a:gd name="textAreaLeft" fmla="*/ 570960 w 2502000"/>
                <a:gd name="textAreaRight" fmla="*/ 1931040 w 2502000"/>
                <a:gd name="textAreaTop" fmla="*/ 501480 h 2197080"/>
                <a:gd name="textAreaBottom" fmla="*/ 1695600 h 2197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9234db"/>
            </a:solidFill>
            <a:ln w="12600">
              <a:solidFill>
                <a:srgbClr val="ffffcc"/>
              </a:solidFill>
              <a:miter/>
            </a:ln>
            <a:effectLst>
              <a:outerShdw dist="107932" dir="2700000" blurRad="0" rotWithShape="0">
                <a:srgbClr val="5f5f5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055600" y="5029200"/>
              <a:ext cx="168300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ASKING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QUESTIONS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5340240" y="4273560"/>
            <a:ext cx="2502000" cy="2197080"/>
            <a:chOff x="5340240" y="4273560"/>
            <a:chExt cx="2502000" cy="2197080"/>
          </a:xfrm>
        </p:grpSpPr>
        <p:sp>
          <p:nvSpPr>
            <p:cNvPr id="70" name=""/>
            <p:cNvSpPr/>
            <p:nvPr/>
          </p:nvSpPr>
          <p:spPr>
            <a:xfrm>
              <a:off x="5340240" y="4273560"/>
              <a:ext cx="2502000" cy="2197080"/>
            </a:xfrm>
            <a:custGeom>
              <a:avLst/>
              <a:gdLst>
                <a:gd name="textAreaLeft" fmla="*/ 570960 w 2502000"/>
                <a:gd name="textAreaRight" fmla="*/ 1931040 w 2502000"/>
                <a:gd name="textAreaTop" fmla="*/ 501480 h 2197080"/>
                <a:gd name="textAreaBottom" fmla="*/ 1695600 h 2197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35b1b"/>
            </a:solidFill>
            <a:ln w="12600">
              <a:solidFill>
                <a:srgbClr val="ffffcc"/>
              </a:solidFill>
              <a:miter/>
            </a:ln>
            <a:effectLst>
              <a:outerShdw dist="107932" dir="2700000" blurRad="0" rotWithShape="0">
                <a:srgbClr val="5f5f5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642640" y="5013360"/>
              <a:ext cx="195300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TERMINATING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INTERVIEWS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5638680" y="2743200"/>
          <a:ext cx="2516400" cy="368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2743200"/>
                    <a:ext cx="2516400" cy="368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Making Initial Contact 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and Securing the Interview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Good afternoon, my name is…”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ot-in-the-door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oor-in-the-fac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Asking the Question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xactly as worde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Read slowl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Questions in the proper order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sk every quest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Repeat questions that are not understoo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robing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Verbal attempts made by a field-worker when the respondent must be motivated to communicate his or her answers more full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robes enlarge and clarif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"/>
          <p:cNvGraphicFramePr/>
          <p:nvPr/>
        </p:nvGraphicFramePr>
        <p:xfrm>
          <a:off x="762120" y="2057400"/>
          <a:ext cx="7810560" cy="425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057400"/>
                    <a:ext cx="7810560" cy="425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"/>
          <p:cNvSpPr/>
          <p:nvPr/>
        </p:nvSpPr>
        <p:spPr>
          <a:xfrm>
            <a:off x="3953520" y="2498760"/>
            <a:ext cx="1267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SILEN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PROB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772600" y="3870360"/>
            <a:ext cx="25167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REPEAT REPL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625920" y="5318280"/>
            <a:ext cx="1860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NEUTRAL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QUEST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915840" y="3886200"/>
            <a:ext cx="3094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REPEAT QUEST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robing Tactic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3200400" y="2209680"/>
            <a:ext cx="3232080" cy="326412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Recording the Respons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4T15:37:42Z</dcterms:created>
  <dc:creator>zikmund</dc:creator>
  <dc:description/>
  <dc:language>en-US</dc:language>
  <cp:lastModifiedBy>zikmund</cp:lastModifiedBy>
  <dcterms:modified xsi:type="dcterms:W3CDTF">2002-01-25T14:40:10Z</dcterms:modified>
  <cp:revision>2</cp:revision>
  <dc:subject>Chapter 18</dc:subject>
  <dc:title>Business  Research Methods  William G. Zikmund </dc:title>
</cp:coreProperties>
</file>