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33C8-35E4-4E12-BA78-9C65AB883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EE51-B8C9-432D-AED5-8E674914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39E5-206B-4FFA-AAED-DB6B003BA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CCA7-3747-4884-9E3C-F161CE5A2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8A31-7C33-42C9-88F0-43244F02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AD0B-DA93-4577-8CFF-516357BE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C9E6-74C0-4D1F-B487-9705D720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E4CF-918D-49A5-80F5-6AED035D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5C35-6AA6-4F30-8803-376097E4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5EC8-24C2-488E-9341-6CC1FAA7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F8C4-D4F8-4647-9AF1-9CB19A43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C783-A7C4-42D2-80B0-D3F91ABC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A0DE-32B5-4077-B1A3-8CB6523FCC6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usines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Research Methods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illiam G. Zikmund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apter 16: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mple Designs and Sampling Procedu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andom Sampling Erro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difference between the sample results and the result of a census conducted using identical procedu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tistical fluctuation due to chance varia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ystematic Err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nsampling erro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nrepresentative sample resul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due to cha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ue to study design or imperfections in execu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rrors Associated with Sampl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mpling frame err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andom sampling err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nresponse err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wo Major Categories of Sampl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bability sampl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Known, nonzero probability for every ele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nprobability sampl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bability of selecting any particular member is unknow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onprobability Sampl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venie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Judgm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Quo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nowbal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bability Sampl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mple random samp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ystematic samp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ratified samp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uster samp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ultistage area samp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venience Sampl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so called haphazard or accidental sampl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sampling procedure of obtaining the people or units that are most conveniently availab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Judgment Sampling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so called purposive  sampling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 experienced individual selects the sample based on his or her judgment about some appropriate characteristics required  of the sample memb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Quota Sampling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nsures  that the various subgroups in a population are represented on pertinent sample characteristic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o the exact extent that the investigators desi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 should not be confused with stratified sampl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nowball Sampling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variety of procedure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itial respondents are selected by probability method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ditional respondents are obtained from information provided by the initial responden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mpling Terminolog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mp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pulation or univer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pulation elem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ens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imple Random Sampling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sampling procedure that ensures that each element in the population will have an equal chance of being included in the samp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ystematic Sampling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simple proces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very  nth name from the list will be draw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ratified Sampl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bability samp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bsamples are drawn within different stra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ach stratum is more or less equal on some characteristi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 not confuse with quota samp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uster Sampl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purpose of cluster sampling is to sample economically while retaining the characteristics of a probability sampl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primary sampling unit is no longer the individual element in the population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primary sampling unit is a larger cluster of elements located in proximity to one another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54920" y="2131920"/>
            <a:ext cx="7489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Population Element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Possible Clusters in the United Stat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2438280"/>
            <a:ext cx="7689960" cy="0"/>
          </a:xfrm>
          <a:prstGeom prst="line">
            <a:avLst/>
          </a:prstGeom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24400" y="2795760"/>
            <a:ext cx="66834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U.S. adult population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tat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Counti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Metropolitan Statistical Are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Census tract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Block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Household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s of Clust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07560" y="2436840"/>
            <a:ext cx="7489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Population Element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Possible Clusters in the United Stat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2280" y="2743200"/>
            <a:ext cx="7689600" cy="0"/>
          </a:xfrm>
          <a:prstGeom prst="line">
            <a:avLst/>
          </a:prstGeom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01080" y="3024360"/>
            <a:ext cx="679752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College seniors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Colleg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Manufacturing firms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Counti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Metropolitan Statistical Are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Localiti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Plant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s of Clust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54920" y="2055960"/>
            <a:ext cx="7489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Population Element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Possible Clusters in the United Stat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2362320"/>
            <a:ext cx="7689960" cy="0"/>
          </a:xfrm>
          <a:prstGeom prst="line">
            <a:avLst/>
          </a:prstGeom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8440" y="2643120"/>
            <a:ext cx="565452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Airline travelers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Airport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Pla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ports fans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Football stadium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Basketball aren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Baseball park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s of Clust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at is the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ppropriate Sample Design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gree of accurac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ourc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i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vanced knowledge of the popul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ational versus loc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ed for statistical analys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net Sampling is Uniqu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ternet surveys allow researchers to rapidly reach a large sample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peed is both an advantage and a disadvantage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mple size requirements can be met overnight or almost instantaneously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vey should be kept open long enough so all sample units can participa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net Sampl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jor disadvantag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ack of computer ownership and Internet access among certain segments of the popul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Yet Internet samples may be representative of a target population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arget population - visitors to a particular Web site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ard to reach subjects may participa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mp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bset of a larger popul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eb Site Visit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nrestricted samples are clearly convenience samp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andomly selecting visito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Questionnaire request randomly "pops up"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ver- representing the more frequent visitor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nel Sampl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ypically yield a high response rat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mbers may be compensated for their time with a sweepstake or a small, cash incentive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tabase on memb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mographic and other information from previous questionnair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lect quota samples based on product ownership, lifestyle, or other characteristic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bability Samples from Large Panel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net Sampl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cruited Ad Hoc Samp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pt-in Lis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opul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y complete grou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eop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ales territori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or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343400" y="3048120"/>
            <a:ext cx="4241880" cy="3403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ensu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vestigation of all individual elements that make up a popul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825640" y="615960"/>
            <a:ext cx="3797280" cy="520560"/>
          </a:xfrm>
          <a:prstGeom prst="rect">
            <a:avLst/>
          </a:prstGeom>
          <a:solidFill>
            <a:srgbClr val="00009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24280" y="668160"/>
            <a:ext cx="3600360" cy="416160"/>
          </a:xfrm>
          <a:prstGeom prst="rect">
            <a:avLst/>
          </a:prstGeom>
          <a:solidFill>
            <a:srgbClr val="0000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16080" y="714240"/>
            <a:ext cx="34164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Define the target popula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25640" y="1454040"/>
            <a:ext cx="3797280" cy="520920"/>
          </a:xfrm>
          <a:prstGeom prst="rect">
            <a:avLst/>
          </a:prstGeom>
          <a:solidFill>
            <a:srgbClr val="0033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24280" y="1506600"/>
            <a:ext cx="360036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Select a sampling fram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25640" y="5721480"/>
            <a:ext cx="3797280" cy="520560"/>
          </a:xfrm>
          <a:prstGeom prst="rect">
            <a:avLst/>
          </a:prstGeom>
          <a:solidFill>
            <a:srgbClr val="99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24280" y="5773680"/>
            <a:ext cx="360036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Conduct fieldwork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362320"/>
            <a:ext cx="3797280" cy="52056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17800" y="2414520"/>
            <a:ext cx="360036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Determine if a probability or nonprobability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sampling method will be chose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25640" y="3206880"/>
            <a:ext cx="3797280" cy="520560"/>
          </a:xfrm>
          <a:prstGeom prst="rect">
            <a:avLst/>
          </a:prstGeom>
          <a:solidFill>
            <a:srgbClr val="00cc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24280" y="3259080"/>
            <a:ext cx="360036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Plan procedure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for selecting sampling unit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25640" y="4044960"/>
            <a:ext cx="3797280" cy="520560"/>
          </a:xfrm>
          <a:prstGeom prst="rect">
            <a:avLst/>
          </a:prstGeom>
          <a:solidFill>
            <a:srgbClr val="00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24280" y="4097160"/>
            <a:ext cx="360036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Determine sample siz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25640" y="4883040"/>
            <a:ext cx="3797280" cy="52092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24280" y="4935600"/>
            <a:ext cx="360036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Select actual sampling unit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9800" y="380880"/>
            <a:ext cx="20901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Stages in th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Sele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of a Samp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1987560"/>
            <a:ext cx="0" cy="374760"/>
          </a:xfrm>
          <a:prstGeom prst="line">
            <a:avLst/>
          </a:prstGeom>
          <a:ln w="12600">
            <a:solidFill>
              <a:srgbClr val="ffff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24280" y="5416560"/>
            <a:ext cx="0" cy="298440"/>
          </a:xfrm>
          <a:prstGeom prst="line">
            <a:avLst/>
          </a:prstGeom>
          <a:ln w="12600">
            <a:solidFill>
              <a:srgbClr val="ffff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4578480"/>
            <a:ext cx="0" cy="298440"/>
          </a:xfrm>
          <a:prstGeom prst="line">
            <a:avLst/>
          </a:prstGeom>
          <a:ln w="12600">
            <a:solidFill>
              <a:srgbClr val="ffff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3740040"/>
            <a:ext cx="0" cy="298440"/>
          </a:xfrm>
          <a:prstGeom prst="line">
            <a:avLst/>
          </a:prstGeom>
          <a:ln w="12600">
            <a:solidFill>
              <a:srgbClr val="ffff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24280" y="2901960"/>
            <a:ext cx="0" cy="298440"/>
          </a:xfrm>
          <a:prstGeom prst="line">
            <a:avLst/>
          </a:prstGeom>
          <a:ln w="12600">
            <a:solidFill>
              <a:srgbClr val="ffff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724280" y="1149480"/>
            <a:ext cx="0" cy="374400"/>
          </a:xfrm>
          <a:prstGeom prst="line">
            <a:avLst/>
          </a:prstGeom>
          <a:ln w="12600">
            <a:solidFill>
              <a:srgbClr val="ffff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arget Popul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levant popul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perationally def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mic book reader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mpling Fram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list of elements from which the sample may be draw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orking popul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iling lists - data base market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mpling frame err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mpling Uni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roup selected for the samp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imary Sampling Units (PSU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ary Sampling Uni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rtiary Sampling Uni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4T11:38:56Z</dcterms:created>
  <dc:creator>zikmund</dc:creator>
  <dc:description/>
  <dc:language>en-US</dc:language>
  <cp:lastModifiedBy>zikmund</cp:lastModifiedBy>
  <dcterms:modified xsi:type="dcterms:W3CDTF">2002-01-24T15:47:44Z</dcterms:modified>
  <cp:revision>6</cp:revision>
  <dc:subject>Chapter 16</dc:subject>
  <dc:title>Business  Research Methods  William G. Zikmund </dc:title>
</cp:coreProperties>
</file>