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5964-6706-458D-AFC1-9FDF5228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69E3-46F0-412B-A063-09603604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8B85-4895-44DE-A009-5A3A71A2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D842-227A-4CAC-AD78-D57AE954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0BDA-9328-4638-92BF-FA2DE331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630A-510E-41D0-82DE-E777E2AB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3824-8C7E-4390-AB81-9F8FEE39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72A-8288-463D-BECC-3414EC82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6400-1635-4802-9AE6-996E4BF2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9D62-4AD6-4ADE-9686-940434B2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E5D6-DA56-4CF2-B63D-D4662307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857-4A1D-46DA-904B-C801EAC7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CAFF-CDE8-46D4-8DB4-821412173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Business</a:t>
            </a:r>
            <a:br>
              <a:rPr sz="4400"/>
            </a:b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Research Method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iam G. Zikmund</a:t>
            </a:r>
            <a:br>
              <a:rPr sz="2800"/>
            </a:br>
            <a:endParaRPr b="0" lang="en-US" sz="2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20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Data Analysis:  Descriptive Statistics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Cross-Tabulation</a:t>
            </a:r>
            <a:br>
              <a:rPr sz="4400"/>
            </a:b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echnique for organizing data by groups, categories, or classes, thus facilitating comparisons; a joint frequency distribution of observations on two or more sets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gency table- The results of a cross-tabulation of two variables, such as survey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Cross-Tabulation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ze data by groups or categ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dif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gency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ntage cross-tab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Base</a:t>
            </a:r>
            <a:br>
              <a:rPr sz="4400"/>
            </a:b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respondents or observations (in a row or column) used as a basis for computing perce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Elaboration and Refinement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ator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hird variable that, when introduced into an analysis, alters or has a contingent effect on the relationship between an independent variable and a dependent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urious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pparent relationship between two variables that is not authen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2440" y="2374920"/>
            <a:ext cx="2654280" cy="2197080"/>
          </a:xfrm>
          <a:prstGeom prst="hexagon">
            <a:avLst>
              <a:gd name="adj" fmla="val 30163"/>
              <a:gd name="vf" fmla="val 11547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03760" y="2870280"/>
            <a:ext cx="1116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3137040"/>
            <a:ext cx="2654280" cy="2197080"/>
          </a:xfrm>
          <a:prstGeom prst="hexagon">
            <a:avLst>
              <a:gd name="adj" fmla="val 30163"/>
              <a:gd name="vf" fmla="val 11547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88320" y="3648240"/>
            <a:ext cx="2591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quad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43760" y="3975120"/>
            <a:ext cx="2654280" cy="2197080"/>
          </a:xfrm>
          <a:prstGeom prst="hexagon">
            <a:avLst>
              <a:gd name="adj" fmla="val 30163"/>
              <a:gd name="vf" fmla="val 115470"/>
            </a:avLst>
          </a:prstGeom>
          <a:solidFill>
            <a:srgbClr val="cc00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6400" y="4486320"/>
            <a:ext cx="2047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anc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Quadrant Analysis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Data Transformation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n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ing the original form of the data to a ne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appropriate data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Data Transformation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tive Score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1 + VAR2 + VA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Collapsing a Five-Point Scale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ly 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ther Agree nor Dis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ly Dis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ly Agree/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ther Agree nor Dis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gree/Strongly Dis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Index Numbers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re or observation recalibrated to indicate how it relates to a bas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PI - Consumer Price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Calculating Rank Order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in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nd p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Descriptive Analysis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nsformation of raw data into a form that will make them easy to understand and interpret; rearranging, ordering, and manipulating data to generate descriptiv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Tables 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nerheads for colum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heads for r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62520" y="2209680"/>
            <a:ext cx="4838760" cy="3886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Charts and Graphs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e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896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124080" y="609588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6723360" cy="3467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Line Graph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847880" y="2379600"/>
          <a:ext cx="609588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2379600"/>
                    <a:ext cx="609588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101448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Bar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229600" cy="53341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WebSurveyor Bar Chart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Computer Programs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Exc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Survey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763120" cy="4159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Microsoft Excel -Data Analysis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te Function</a:t>
            </a: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 Provides Numerous Statistical Operations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518148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92280" y="1073160"/>
            <a:ext cx="1968480" cy="90180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Ty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8240" y="3892680"/>
            <a:ext cx="1968480" cy="90144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No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6880" y="3206880"/>
            <a:ext cx="1968480" cy="90144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d0d"/>
                </a:solidFill>
                <a:latin typeface="Arial"/>
              </a:rPr>
              <a:t>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d0d"/>
                </a:solidFill>
                <a:latin typeface="Arial"/>
              </a:rPr>
              <a:t>categ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6880" y="4654440"/>
            <a:ext cx="1968480" cy="9018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d0d"/>
                </a:solidFill>
                <a:latin typeface="Arial"/>
              </a:rPr>
              <a:t>More th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d0d"/>
                </a:solidFill>
                <a:latin typeface="Arial"/>
              </a:rPr>
              <a:t>two categ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8840" y="2978280"/>
            <a:ext cx="2882880" cy="273024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d0d"/>
                </a:solidFill>
                <a:latin typeface="Arial"/>
              </a:rPr>
              <a:t>Frequency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d0d"/>
                </a:solidFill>
                <a:latin typeface="Arial"/>
              </a:rPr>
              <a:t>Proportion (percent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d0d"/>
                </a:solidFill>
                <a:latin typeface="Arial"/>
              </a:rPr>
              <a:t>Frequency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d0d"/>
                </a:solidFill>
                <a:latin typeface="Arial"/>
              </a:rPr>
              <a:t>Category propor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d0d"/>
                </a:solidFill>
                <a:latin typeface="Arial"/>
              </a:rPr>
              <a:t>(percentag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d0d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68840" y="1073160"/>
            <a:ext cx="2806920" cy="97776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Typ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descriptiv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986120"/>
            <a:ext cx="0" cy="1900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43720" y="4267080"/>
            <a:ext cx="2814480" cy="0"/>
          </a:xfrm>
          <a:prstGeom prst="line">
            <a:avLst/>
          </a:prstGeom>
          <a:ln w="507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7880" y="4343400"/>
            <a:ext cx="30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52800" y="3581280"/>
            <a:ext cx="14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3586320"/>
            <a:ext cx="0" cy="151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52800" y="5105520"/>
            <a:ext cx="14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6520" y="3657600"/>
            <a:ext cx="376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6520" y="5105520"/>
            <a:ext cx="376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2062080"/>
            <a:ext cx="0" cy="909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Computer Programs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x and whisker pl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quartile range - midsp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Interpretation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ss of making pertinent inferences and drawing 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rning the meaning and implications of a research investi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2819520"/>
            <a:ext cx="1968480" cy="90144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Ty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2819520"/>
            <a:ext cx="2806560" cy="97776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Typ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descriptiv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419720"/>
            <a:ext cx="1968480" cy="90144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Or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4419720"/>
            <a:ext cx="2806560" cy="97776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Rank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1760" y="4870440"/>
            <a:ext cx="2814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0040" y="3732120"/>
            <a:ext cx="0" cy="68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04160" y="380844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895480"/>
            <a:ext cx="1968480" cy="90180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Ty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2895480"/>
            <a:ext cx="2806560" cy="97812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Typ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descriptiv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495680"/>
            <a:ext cx="1968480" cy="9018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4495680"/>
            <a:ext cx="2806560" cy="9781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Arithmetic 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1760" y="4946760"/>
            <a:ext cx="2814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70040" y="3808440"/>
            <a:ext cx="0" cy="68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04160" y="388476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2971800"/>
            <a:ext cx="1968480" cy="90180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Ty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2971800"/>
            <a:ext cx="2806560" cy="97776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Typ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descriptiv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572000"/>
            <a:ext cx="1968480" cy="9018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62720" y="4572000"/>
            <a:ext cx="3041640" cy="97776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Index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Geometric 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0d"/>
                </a:solidFill>
                <a:latin typeface="Arial"/>
              </a:rPr>
              <a:t>Harmonic m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5022720"/>
            <a:ext cx="2813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0040" y="3886200"/>
            <a:ext cx="0" cy="67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04160" y="3962520"/>
            <a:ext cx="0" cy="60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Tabulation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ulation - Orderly arrangement of data in a table or other summary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24080" y="63244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Frequency Table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rrangement of statistical data in a row-and-column format that exhibits the count of responses or observations for each category assigned to a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2514600"/>
            <a:ext cx="82119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of Sc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denc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al or rat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8640" y="3809880"/>
            <a:ext cx="7996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Central Tendency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15:42:45Z</dcterms:created>
  <dc:creator>zikmund</dc:creator>
  <dc:description/>
  <dc:language>en-US</dc:language>
  <cp:lastModifiedBy>zikmund</cp:lastModifiedBy>
  <dcterms:modified xsi:type="dcterms:W3CDTF">2002-01-26T16:04:48Z</dcterms:modified>
  <cp:revision>5</cp:revision>
  <dc:subject>Chapter 20</dc:subject>
  <dc:title>Business Research Methods  William G. Zikmund </dc:title>
</cp:coreProperties>
</file>